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25D-D49A-4892-A057-75D102BE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AF5-2959-43F8-B769-933A4249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078-523B-43E9-947F-2EF6DDC7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42D-984E-470E-8EF4-12AA7D70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7A4E-2C09-4224-978B-6263B828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127A-E2A3-45F4-9818-AE9E896B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6C3F-F30F-4B30-814F-421BCFD6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70F7-E3D2-4134-AE3E-1754F353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1234-293C-40D1-AE65-4498A7B1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94EB-D47F-4E9B-91CF-C8DB6DF0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51A2-2E29-4275-9EC9-8DEA07B8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FBD-16BC-4200-B94C-0EAC77A0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6633-69F3-446F-B646-14E1298C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54C1-F24B-4101-9516-AC221701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37A3-F4F6-4479-B52F-DB33AC30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33FC-B5F8-44EB-81F4-CD49D708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EF52-D573-45F8-B2A5-E23AB23A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B37-8608-40A5-98BB-979CF3A6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B76-4238-4AEB-8F8A-D1448DCD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AC3-D4E5-4883-B93A-2D3C4993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E73-0F5B-4041-8F17-B485A9F2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E64-9A7F-4476-B220-C4688024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161-E235-4C5B-A749-9472831D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B96-4F1E-414F-A41F-5D7FADB5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5510-E507-4691-B77F-ECA02F6AB9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2084-8D56-4CF1-AC5F-130FD5D8057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cuj.com/articles/1999/9907/9907d/9907d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gamasutra.com/features/19991112/GavinWhite_01.htm" TargetMode="External"/><Relationship Id="rId2" Type="http://schemas.openxmlformats.org/officeDocument/2006/relationships/hyperlink" Target="http://www.gamasutra.com/features/19990409/cache_01.htm" TargetMode="External"/><Relationship Id="rId3" Type="http://schemas.openxmlformats.org/officeDocument/2006/relationships/hyperlink" Target="http://www.gamasutra.com/features/19990730/sse_prefetch_01.htm" TargetMode="External"/><Relationship Id="rId4" Type="http://schemas.openxmlformats.org/officeDocument/2006/relationships/hyperlink" Target="http://www.gamasutra.com/features/19990730/sse_prefetch_01.htm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MEMORY OPTIMIZ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rister Eric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ny Computer Entertainment, Santa Mon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christer_ericson@playstation.sony.co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ome cache spe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7200" y="1600200"/>
          <a:ext cx="8153280" cy="2300400"/>
        </p:xfrm>
        <a:graphic>
          <a:graphicData uri="http://schemas.openxmlformats.org/drawingml/2006/table">
            <a:tbl>
              <a:tblPr/>
              <a:tblGrid>
                <a:gridCol w="2022480"/>
                <a:gridCol w="2765520"/>
                <a:gridCol w="3365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1 cache (I/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2 ca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K/8K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-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eCu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K/32K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‡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8-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6K 2-way unifi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BO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K/16K 4-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K 8-way unifi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~32-64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~128-512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>
            <a:off x="207720" y="4419720"/>
            <a:ext cx="82364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K data scratchpad important part of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ble as 16K 4-way + 16K scratch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oes: 3 C’s of cache miss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lsory mi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voidable misses when data read for firs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pacity mi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ough cache space to hold all activ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much data accessed inbetween successive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flict mi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 thrashing due to data mapping to same cache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riends: Introducing the 3 R’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01680" y="4330800"/>
          <a:ext cx="8540640" cy="207000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uls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5b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5b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5b74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r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301680" y="1295280"/>
            <a:ext cx="85406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arrange (code,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layout to increase spatial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uce (size, # cache lines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/smarter formats,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use (cache li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 temporal (and spatial)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asuring cache utiliz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4475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performance/event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memory access stat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access patterns (e.g. stri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rcial produ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N Systems’ Tuner, Metrowerks’ CATS, Intel’s VTu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l your 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cc ‘-p’ option + defin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_mcoun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ment code with calls to logging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back-of-the-envelope compari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udy the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de cache optimization 1/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order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ly within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order object files during linking (order in makefi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__attribute__ ((section ("xxx"))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g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 coding sty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olithic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ion/OOP is less code cache friend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ing tar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ware various implicit functions (e.g. fpto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de cache optimization 2/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447920"/>
            <a:ext cx="8540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ware: inlining, unrolling, large mac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featurit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multiple copies (also helps loca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splitting and loop f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ile for size (‘-Os’ in g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write in asm (where it cou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gain, study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intuition about cod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ata cache optimiz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ts and lots of stuff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ing”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 and strip m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 data to align to cach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s other things I won’t go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 will talk abo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tching and preloading data in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-conscious structur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data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arization c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asing and “anti-aliasing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efetching and preload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oftware prefet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too early – data may be evicted before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too late – data not fetched in time for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loading (pseudo-prefetch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t-under-miss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85800" y="3886200"/>
            <a:ext cx="46483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304920" y="3048120"/>
          <a:ext cx="8537400" cy="305100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3066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nst int kLookAhead = 4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Some elements ah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4 * n; i += 4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fetch(elem[i + kLookAhead]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elem[i + 0]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elem[i + 1]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elem[i + 2]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elem[i + 3]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oftware prefetch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01680" y="1600200"/>
          <a:ext cx="8537400" cy="129528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295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Loop through and process all 4n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4 * n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elem[i]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85800" y="3886200"/>
            <a:ext cx="335268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2438280"/>
            <a:ext cx="335268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eedy prefetch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01680" y="1600200"/>
          <a:ext cx="8540640" cy="4138560"/>
        </p:xfrm>
        <a:graphic>
          <a:graphicData uri="http://schemas.openxmlformats.org/drawingml/2006/table">
            <a:tbl>
              <a:tblPr/>
              <a:tblGrid>
                <a:gridCol w="8540640"/>
              </a:tblGrid>
              <a:tr h="41709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PreorderTraversal(Node *pNode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Greedily prefetch left traversal 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fetch(pNode-&gt;left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Process the current n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pNode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Greedily prefetch right traversal 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fetch(pNode-&gt;right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Recursively visit left then right subt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orderTraversal(pNode-&gt;left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orderTraversal(pNode-&gt;right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alk contents 1/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blem stat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“memory optimizat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rief architecture 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mory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ptimizing for (code and) data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sugges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tching and prelo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lay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arization 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2438280"/>
            <a:ext cx="685800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eloading (pseudo-prefetch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301680" y="1600200"/>
          <a:ext cx="8540640" cy="4503600"/>
        </p:xfrm>
        <a:graphic>
          <a:graphicData uri="http://schemas.openxmlformats.org/drawingml/2006/table">
            <a:tbl>
              <a:tblPr/>
              <a:tblGrid>
                <a:gridCol w="8540640"/>
              </a:tblGrid>
              <a:tr h="45392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lem a = elem[0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4 * n; i += 4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lem e = elem[i + 4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Cache miss, non-bloc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lem b = elem[i + 1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Cache h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lem c = elem[i + 2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Cache h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lem d = elem[i + 3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Cache h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a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b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c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d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= 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43" name=""/>
          <p:cNvSpPr/>
          <p:nvPr/>
        </p:nvSpPr>
        <p:spPr>
          <a:xfrm>
            <a:off x="-304920" y="6254640"/>
            <a:ext cx="91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B: This code reads one element beyond the end of the elem array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che-conscious lay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reordering (usually grouped conceptu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t/cold spl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t use decide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 of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s of ar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ttle compiler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for non-pointer languages (Ja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/C++: do it your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819520" y="4114800"/>
            <a:ext cx="53316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81080" y="5562720"/>
            <a:ext cx="83844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01680" y="3276720"/>
          <a:ext cx="4879800" cy="3408120"/>
        </p:xfrm>
        <a:graphic>
          <a:graphicData uri="http://schemas.openxmlformats.org/drawingml/2006/table">
            <a:tbl>
              <a:tblPr/>
              <a:tblGrid>
                <a:gridCol w="4879800"/>
              </a:tblGrid>
              <a:tr h="34344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S *p, void *key, int k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hile (p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f (p-&gt;key == key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-&gt;count[k]++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reak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 = p-&gt;pNex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ield reorder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301680" y="1295280"/>
          <a:ext cx="3660480" cy="1855800"/>
        </p:xfrm>
        <a:graphic>
          <a:graphicData uri="http://schemas.openxmlformats.org/drawingml/2006/table">
            <a:tbl>
              <a:tblPr/>
              <a:tblGrid>
                <a:gridCol w="366048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S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*key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count[20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 *pNex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5181480" y="1295280"/>
          <a:ext cx="3657240" cy="1855800"/>
        </p:xfrm>
        <a:graphic>
          <a:graphicData uri="http://schemas.openxmlformats.org/drawingml/2006/table">
            <a:tbl>
              <a:tblPr/>
              <a:tblGrid>
                <a:gridCol w="365724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S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*key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 *pNex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count[20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2514600" y="182880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514600" y="2209320"/>
            <a:ext cx="3048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486400" y="3938760"/>
            <a:ext cx="3429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kely accessed together so store them toge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85800" y="3173400"/>
            <a:ext cx="38088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301680" y="2030400"/>
          <a:ext cx="3660840" cy="1855800"/>
        </p:xfrm>
        <a:graphic>
          <a:graphicData uri="http://schemas.openxmlformats.org/drawingml/2006/table">
            <a:tbl>
              <a:tblPr/>
              <a:tblGrid>
                <a:gridCol w="366084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S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*key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 *pNex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2 *pCold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6172200" y="2106720"/>
            <a:ext cx="38088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5181480" y="2030400"/>
          <a:ext cx="3657600" cy="182844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18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S2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count[10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ot/cold splitt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666880" y="2258640"/>
            <a:ext cx="243864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1680" y="4038480"/>
            <a:ext cx="85406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cate all ‘struct S’ from a memory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s coh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fer array-style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ed for actual pointer to cold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-38520" y="1547640"/>
            <a:ext cx="25538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t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834080" y="1523880"/>
            <a:ext cx="26956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d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ot/cold splitt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eware compiler padd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01680" y="1600200"/>
          <a:ext cx="2593800" cy="3123720"/>
        </p:xfrm>
        <a:graphic>
          <a:graphicData uri="http://schemas.openxmlformats.org/drawingml/2006/table">
            <a:tbl>
              <a:tblPr/>
              <a:tblGrid>
                <a:gridCol w="2593800"/>
              </a:tblGrid>
              <a:tr h="31237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X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8 a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64 b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8 c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16 d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64 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5029200"/>
            <a:ext cx="85406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ing 4-byte floats, for most compilers sizeof(X) == 40, sizeof(Y) == 40, and sizeof(Z) == 2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6172200" y="1600200"/>
          <a:ext cx="2669760" cy="3124080"/>
        </p:xfrm>
        <a:graphic>
          <a:graphicData uri="http://schemas.openxmlformats.org/drawingml/2006/table">
            <a:tbl>
              <a:tblPr/>
              <a:tblGrid>
                <a:gridCol w="2669760"/>
              </a:tblGrid>
              <a:tr h="31240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Z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64 b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64 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16 d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8 a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8 c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2971800" y="1600200"/>
          <a:ext cx="3124080" cy="31161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31399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Y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8 a, pad_a[7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64 b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8 c, pad_c[1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16 d, pad_d[2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64 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f, pad_f[1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71" name=""/>
          <p:cNvSpPr/>
          <p:nvPr/>
        </p:nvSpPr>
        <p:spPr>
          <a:xfrm>
            <a:off x="8077320" y="2057400"/>
            <a:ext cx="0" cy="2133720"/>
          </a:xfrm>
          <a:prstGeom prst="line">
            <a:avLst/>
          </a:prstGeom>
          <a:ln w="76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166600" y="1547280"/>
            <a:ext cx="47268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ahoma"/>
              </a:rPr>
              <a:t>Decreasing si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che performance analy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age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ity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t or cold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lation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asis for field re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gg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all class members through accessor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ly instrument functions to call Log()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() function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s object type + member field as arg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h-maps current args to count field ac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h-maps current + previous args to track pairwise ac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ree data struc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arrang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 spatial loc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-aware vs. cache-oblivious lay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duc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er elimination (using implicit point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ion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data relative to parent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readth-first or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066680" y="1139760"/>
            <a:ext cx="6858000" cy="4353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680" y="5482800"/>
            <a:ext cx="8540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er-less: Left(n)=2n, Right(n)=2n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storage for complete tree of height 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pth-first or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5482800"/>
            <a:ext cx="8540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(n) = n + 1, Right(n) = stored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tores existing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219320" y="1204920"/>
            <a:ext cx="6553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alk contents 2/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ia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penalty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as analysis (type-bas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’ poi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s for reducing alia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van Emde Boas layou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457200" y="1216080"/>
            <a:ext cx="8077320" cy="399888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5407200"/>
            <a:ext cx="85406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-obliviou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ursive constr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 compact static k-d tre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1320" y="1371240"/>
            <a:ext cx="3660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union KDNod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99"/>
                </a:solidFill>
                <a:latin typeface="Arial Black"/>
              </a:rPr>
              <a:t>    </a:t>
            </a:r>
            <a:r>
              <a:rPr b="0" i="1" lang="en-US" sz="1800" spc="-1" strike="noStrike">
                <a:solidFill>
                  <a:srgbClr val="666699"/>
                </a:solidFill>
                <a:latin typeface="Arial Black"/>
              </a:rPr>
              <a:t>// leaf, type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t32 leafIndex_typ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99"/>
                </a:solidFill>
                <a:latin typeface="Arial Black"/>
              </a:rPr>
              <a:t>    </a:t>
            </a:r>
            <a:r>
              <a:rPr b="0" i="1" lang="en-US" sz="1800" spc="-1" strike="noStrike">
                <a:solidFill>
                  <a:srgbClr val="666699"/>
                </a:solidFill>
                <a:latin typeface="Arial Black"/>
              </a:rPr>
              <a:t>// non-leaf, type 00 = x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99"/>
                </a:solidFill>
                <a:latin typeface="Arial Black"/>
              </a:rPr>
              <a:t>    </a:t>
            </a:r>
            <a:r>
              <a:rPr b="0" i="1" lang="en-US" sz="1800" spc="-1" strike="noStrike">
                <a:solidFill>
                  <a:srgbClr val="666699"/>
                </a:solidFill>
                <a:latin typeface="Arial Black"/>
              </a:rPr>
              <a:t>// 01 = y, 10 = z-spl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loat splitVal_typ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5184720" cy="19144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152280" y="4017960"/>
            <a:ext cx="883944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inearization cach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thing better than linear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possible spatial loc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ly prefet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o linearize data at runtim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tch data, store linearized in a custom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it to linearize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erarchy travers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xe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random-access stu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609480" y="130320"/>
            <a:ext cx="777240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mory allocation polic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’t allocate from heap, use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lock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s data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er too, and no fra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ee ASAP, reuse immedi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is likely in cache so reuse its cach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fit, using free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2286000" y="104760"/>
            <a:ext cx="2724120" cy="1495440"/>
            <a:chOff x="2286000" y="104760"/>
            <a:chExt cx="2724120" cy="1495440"/>
          </a:xfrm>
        </p:grpSpPr>
        <p:sp>
          <p:nvSpPr>
            <p:cNvPr id="496" name=""/>
            <p:cNvSpPr/>
            <p:nvPr/>
          </p:nvSpPr>
          <p:spPr>
            <a:xfrm>
              <a:off x="2286000" y="210960"/>
              <a:ext cx="2724120" cy="1152360"/>
            </a:xfrm>
            <a:custGeom>
              <a:avLst/>
              <a:gdLst/>
              <a:ahLst/>
              <a:rect l="l" t="t" r="r" b="b"/>
              <a:pathLst>
                <a:path w="1212" h="726">
                  <a:moveTo>
                    <a:pt x="413" y="127"/>
                  </a:moveTo>
                  <a:cubicBezTo>
                    <a:pt x="346" y="85"/>
                    <a:pt x="305" y="39"/>
                    <a:pt x="251" y="63"/>
                  </a:cubicBezTo>
                  <a:cubicBezTo>
                    <a:pt x="197" y="87"/>
                    <a:pt x="214" y="155"/>
                    <a:pt x="182" y="201"/>
                  </a:cubicBezTo>
                  <a:cubicBezTo>
                    <a:pt x="150" y="247"/>
                    <a:pt x="19" y="192"/>
                    <a:pt x="14" y="252"/>
                  </a:cubicBezTo>
                  <a:cubicBezTo>
                    <a:pt x="9" y="312"/>
                    <a:pt x="83" y="312"/>
                    <a:pt x="89" y="375"/>
                  </a:cubicBezTo>
                  <a:cubicBezTo>
                    <a:pt x="95" y="438"/>
                    <a:pt x="0" y="463"/>
                    <a:pt x="27" y="526"/>
                  </a:cubicBezTo>
                  <a:cubicBezTo>
                    <a:pt x="54" y="589"/>
                    <a:pt x="99" y="513"/>
                    <a:pt x="156" y="549"/>
                  </a:cubicBezTo>
                  <a:cubicBezTo>
                    <a:pt x="213" y="585"/>
                    <a:pt x="150" y="657"/>
                    <a:pt x="197" y="690"/>
                  </a:cubicBezTo>
                  <a:cubicBezTo>
                    <a:pt x="244" y="723"/>
                    <a:pt x="309" y="639"/>
                    <a:pt x="381" y="653"/>
                  </a:cubicBezTo>
                  <a:cubicBezTo>
                    <a:pt x="453" y="667"/>
                    <a:pt x="448" y="704"/>
                    <a:pt x="498" y="712"/>
                  </a:cubicBezTo>
                  <a:cubicBezTo>
                    <a:pt x="548" y="720"/>
                    <a:pt x="576" y="655"/>
                    <a:pt x="609" y="645"/>
                  </a:cubicBezTo>
                  <a:cubicBezTo>
                    <a:pt x="642" y="635"/>
                    <a:pt x="659" y="726"/>
                    <a:pt x="707" y="709"/>
                  </a:cubicBezTo>
                  <a:cubicBezTo>
                    <a:pt x="755" y="692"/>
                    <a:pt x="777" y="596"/>
                    <a:pt x="830" y="595"/>
                  </a:cubicBezTo>
                  <a:cubicBezTo>
                    <a:pt x="883" y="594"/>
                    <a:pt x="935" y="679"/>
                    <a:pt x="970" y="666"/>
                  </a:cubicBezTo>
                  <a:cubicBezTo>
                    <a:pt x="1005" y="653"/>
                    <a:pt x="998" y="597"/>
                    <a:pt x="1020" y="555"/>
                  </a:cubicBezTo>
                  <a:cubicBezTo>
                    <a:pt x="1042" y="513"/>
                    <a:pt x="1131" y="570"/>
                    <a:pt x="1160" y="531"/>
                  </a:cubicBezTo>
                  <a:cubicBezTo>
                    <a:pt x="1189" y="492"/>
                    <a:pt x="1122" y="459"/>
                    <a:pt x="1128" y="433"/>
                  </a:cubicBezTo>
                  <a:cubicBezTo>
                    <a:pt x="1134" y="407"/>
                    <a:pt x="1212" y="384"/>
                    <a:pt x="1190" y="343"/>
                  </a:cubicBezTo>
                  <a:cubicBezTo>
                    <a:pt x="1168" y="302"/>
                    <a:pt x="1067" y="331"/>
                    <a:pt x="1054" y="285"/>
                  </a:cubicBezTo>
                  <a:cubicBezTo>
                    <a:pt x="1041" y="239"/>
                    <a:pt x="1080" y="181"/>
                    <a:pt x="1059" y="148"/>
                  </a:cubicBezTo>
                  <a:cubicBezTo>
                    <a:pt x="1038" y="115"/>
                    <a:pt x="959" y="195"/>
                    <a:pt x="897" y="160"/>
                  </a:cubicBezTo>
                  <a:cubicBezTo>
                    <a:pt x="835" y="125"/>
                    <a:pt x="875" y="38"/>
                    <a:pt x="830" y="19"/>
                  </a:cubicBezTo>
                  <a:cubicBezTo>
                    <a:pt x="785" y="0"/>
                    <a:pt x="730" y="84"/>
                    <a:pt x="696" y="90"/>
                  </a:cubicBezTo>
                  <a:cubicBezTo>
                    <a:pt x="662" y="96"/>
                    <a:pt x="590" y="27"/>
                    <a:pt x="549" y="40"/>
                  </a:cubicBezTo>
                  <a:cubicBezTo>
                    <a:pt x="508" y="53"/>
                    <a:pt x="480" y="169"/>
                    <a:pt x="413" y="127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81280" y="1277640"/>
              <a:ext cx="231840" cy="322560"/>
            </a:xfrm>
            <a:custGeom>
              <a:avLst/>
              <a:gdLst/>
              <a:ahLst/>
              <a:rect l="l" t="t" r="r" b="b"/>
              <a:pathLst>
                <a:path w="146" h="203">
                  <a:moveTo>
                    <a:pt x="14" y="43"/>
                  </a:moveTo>
                  <a:cubicBezTo>
                    <a:pt x="0" y="86"/>
                    <a:pt x="2" y="159"/>
                    <a:pt x="38" y="181"/>
                  </a:cubicBezTo>
                  <a:cubicBezTo>
                    <a:pt x="74" y="203"/>
                    <a:pt x="98" y="201"/>
                    <a:pt x="122" y="175"/>
                  </a:cubicBezTo>
                  <a:cubicBezTo>
                    <a:pt x="146" y="149"/>
                    <a:pt x="94" y="31"/>
                    <a:pt x="74" y="19"/>
                  </a:cubicBezTo>
                  <a:cubicBezTo>
                    <a:pt x="54" y="7"/>
                    <a:pt x="28" y="0"/>
                    <a:pt x="14" y="4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59000" y="104760"/>
              <a:ext cx="206280" cy="245880"/>
            </a:xfrm>
            <a:custGeom>
              <a:avLst/>
              <a:gdLst/>
              <a:ahLst/>
              <a:rect l="l" t="t" r="r" b="b"/>
              <a:pathLst>
                <a:path w="130" h="155">
                  <a:moveTo>
                    <a:pt x="10" y="33"/>
                  </a:moveTo>
                  <a:cubicBezTo>
                    <a:pt x="0" y="49"/>
                    <a:pt x="52" y="139"/>
                    <a:pt x="66" y="147"/>
                  </a:cubicBezTo>
                  <a:cubicBezTo>
                    <a:pt x="80" y="155"/>
                    <a:pt x="118" y="153"/>
                    <a:pt x="124" y="129"/>
                  </a:cubicBezTo>
                  <a:cubicBezTo>
                    <a:pt x="130" y="105"/>
                    <a:pt x="118" y="18"/>
                    <a:pt x="88" y="9"/>
                  </a:cubicBezTo>
                  <a:cubicBezTo>
                    <a:pt x="58" y="0"/>
                    <a:pt x="20" y="17"/>
                    <a:pt x="10" y="3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47960" y="1201680"/>
              <a:ext cx="187560" cy="174600"/>
            </a:xfrm>
            <a:custGeom>
              <a:avLst/>
              <a:gdLst/>
              <a:ahLst/>
              <a:rect l="l" t="t" r="r" b="b"/>
              <a:pathLst>
                <a:path w="118" h="110">
                  <a:moveTo>
                    <a:pt x="10" y="24"/>
                  </a:moveTo>
                  <a:cubicBezTo>
                    <a:pt x="0" y="40"/>
                    <a:pt x="46" y="92"/>
                    <a:pt x="60" y="100"/>
                  </a:cubicBezTo>
                  <a:cubicBezTo>
                    <a:pt x="74" y="108"/>
                    <a:pt x="106" y="110"/>
                    <a:pt x="112" y="86"/>
                  </a:cubicBezTo>
                  <a:cubicBezTo>
                    <a:pt x="118" y="62"/>
                    <a:pt x="80" y="18"/>
                    <a:pt x="50" y="9"/>
                  </a:cubicBezTo>
                  <a:cubicBezTo>
                    <a:pt x="20" y="0"/>
                    <a:pt x="20" y="8"/>
                    <a:pt x="10" y="24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09840" y="1157040"/>
              <a:ext cx="199800" cy="206280"/>
            </a:xfrm>
            <a:custGeom>
              <a:avLst/>
              <a:gdLst/>
              <a:ahLst/>
              <a:rect l="l" t="t" r="r" b="b"/>
              <a:pathLst>
                <a:path w="126" h="130">
                  <a:moveTo>
                    <a:pt x="74" y="18"/>
                  </a:moveTo>
                  <a:cubicBezTo>
                    <a:pt x="30" y="34"/>
                    <a:pt x="4" y="42"/>
                    <a:pt x="2" y="66"/>
                  </a:cubicBezTo>
                  <a:cubicBezTo>
                    <a:pt x="0" y="90"/>
                    <a:pt x="8" y="130"/>
                    <a:pt x="38" y="124"/>
                  </a:cubicBezTo>
                  <a:cubicBezTo>
                    <a:pt x="68" y="118"/>
                    <a:pt x="126" y="48"/>
                    <a:pt x="120" y="24"/>
                  </a:cubicBezTo>
                  <a:cubicBezTo>
                    <a:pt x="114" y="0"/>
                    <a:pt x="118" y="2"/>
                    <a:pt x="74" y="1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curse of alias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53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alias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304920" y="4343400"/>
          <a:ext cx="8533440" cy="1947960"/>
        </p:xfrm>
        <a:graphic>
          <a:graphicData uri="http://schemas.openxmlformats.org/drawingml/2006/table">
            <a:tbl>
              <a:tblPr/>
              <a:tblGrid>
                <a:gridCol w="8533440"/>
              </a:tblGrid>
              <a:tr h="1961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Foo(int *a, int *b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*a = 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*b = 2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turn *a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304920" y="2135160"/>
          <a:ext cx="8533440" cy="1217520"/>
        </p:xfrm>
        <a:graphic>
          <a:graphicData uri="http://schemas.openxmlformats.org/drawingml/2006/table">
            <a:tbl>
              <a:tblPr/>
              <a:tblGrid>
                <a:gridCol w="8533440"/>
              </a:tblGrid>
              <a:tr h="12247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n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*p1 = &amp;n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*p2 = &amp;n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304920" y="3809880"/>
            <a:ext cx="853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asing is also missed opportunities for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5219640" y="3924360"/>
            <a:ext cx="1447920" cy="2743200"/>
          </a:xfrm>
          <a:prstGeom prst="wedgeRectCallout">
            <a:avLst>
              <a:gd name="adj1" fmla="val 26972"/>
              <a:gd name="adj2" fmla="val 116375"/>
            </a:avLst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 vert="eaVert" rot="10800000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valu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ed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know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5400000">
            <a:off x="5600160" y="876240"/>
            <a:ext cx="1447920" cy="3809880"/>
          </a:xfrm>
          <a:prstGeom prst="wedgeRectCallout">
            <a:avLst>
              <a:gd name="adj1" fmla="val 13263"/>
              <a:gd name="adj2" fmla="val 97875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 vert="eaVert" rot="10800000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asing is mult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 to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storag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curse of alias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causing alias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variables/class members make it wo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problem with alias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nders reordering/elimination of loads/st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soning data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Negatively affects instruction schedu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nders common subexpression elimination (CSE), loop-invariant code motion, constant/copy propagatio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ow do we do ‘anti-aliasing’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can be done about alias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tt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aliasing, lower abstraction penalt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tter comp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as analysis such as type-based alias analysi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tter programmers (aiding the compil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’s you, after the next 20 slid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ap of fa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no-alia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6248520" y="6019920"/>
            <a:ext cx="24382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†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b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atrix multiplication 1/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01680" y="1981080"/>
          <a:ext cx="8540640" cy="3408480"/>
        </p:xfrm>
        <a:graphic>
          <a:graphicData uri="http://schemas.openxmlformats.org/drawingml/2006/table">
            <a:tbl>
              <a:tblPr/>
              <a:tblGrid>
                <a:gridCol w="8540640"/>
              </a:tblGrid>
              <a:tr h="34344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at22mul(float a[2][2], float b[2][2], float c[2][2]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2; i++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j = 0; j &lt; 2; j++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i][j] = 0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k = 0; k &lt; 2; k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i][j] += b[i][k] * c[k][j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-248040" y="1523880"/>
            <a:ext cx="8848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optimizing a 2x2 matrix multipl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-192960" y="5738760"/>
            <a:ext cx="8936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typically optimize it? Right, unroll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905120" y="3200400"/>
            <a:ext cx="99036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191120" y="3200400"/>
            <a:ext cx="106668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3505320"/>
            <a:ext cx="990720" cy="304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34120" y="3505320"/>
            <a:ext cx="990360" cy="304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05120" y="3886200"/>
            <a:ext cx="99036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971800" y="3886200"/>
            <a:ext cx="9907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886200"/>
            <a:ext cx="106668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34120" y="3886200"/>
            <a:ext cx="99036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01680" y="4724280"/>
            <a:ext cx="8540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ait! There’s a hidden assumption! a is not b or 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doesn’t (cannot) know th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 Must refetch b[0][0] and b[0]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2) Must refetch c[0][0] and c[1][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) Must refetch b[0][0], b[0][1], c[0][0] and c[1][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atrix multiplication 2/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-201960" y="1523880"/>
            <a:ext cx="7397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ightforward unrolling results in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301680" y="1969920"/>
          <a:ext cx="8540640" cy="2678040"/>
        </p:xfrm>
        <a:graphic>
          <a:graphicData uri="http://schemas.openxmlformats.org/drawingml/2006/table">
            <a:tbl>
              <a:tblPr/>
              <a:tblGrid>
                <a:gridCol w="8540640"/>
              </a:tblGrid>
              <a:tr h="26978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16 memory reads, 4 wri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at22mul(float a[2][2], float b[2][2], float c[2][2]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0][0] = b[0][0]*c[0][0] + b[0][1]*c[1][0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0][1] = b[0][0]*c[0][1] + b[0][1]*c[1][1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1][0] = b[1][0]*c[0][0] + b[1][1]*c[1][0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1][1] = b[1][0]*c[0][1] + b[1][1]*c[1][1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 the last 20-something year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PU speeds have increased ~60%/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ory speeds only decreased ~10%/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p covered by use of cache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che is under-explo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minishing returns for larger c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efficient cache use = lower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increase cache utilization? Cache-awarenes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atrix multiplication 3/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01680" y="1836720"/>
          <a:ext cx="8540640" cy="4503600"/>
        </p:xfrm>
        <a:graphic>
          <a:graphicData uri="http://schemas.openxmlformats.org/drawingml/2006/table">
            <a:tbl>
              <a:tblPr/>
              <a:tblGrid>
                <a:gridCol w="8540640"/>
              </a:tblGrid>
              <a:tr h="45392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8 memory reads, 4 wri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at22mul(float a[2][2], float b[2][2], float c[2][2]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b00 = b[0][0], b01 = b[0][1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b10 = b[1][0], b11 = b[1][1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c00 = c[0][0], c01 = c[0][1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c10 = c[1][0], c11 = c[1][1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0][0] = b00*c00 + b01*c1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0][1] = b00*c01 + b01*c1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1][0] = b10*c00 + b11*c1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1][1] = b10*c01 + b11*c1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-174240" y="1395360"/>
            <a:ext cx="7854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rrect approach is instead writing it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248520" y="4419720"/>
            <a:ext cx="2209680" cy="1447560"/>
          </a:xfrm>
          <a:custGeom>
            <a:avLst/>
            <a:gdLst>
              <a:gd name="textAreaLeft" fmla="*/ 360 w 2209680"/>
              <a:gd name="textAreaRight" fmla="*/ 2210400 w 220968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ff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6248520" y="2666880"/>
            <a:ext cx="2209680" cy="1447920"/>
          </a:xfrm>
          <a:custGeom>
            <a:avLst/>
            <a:gdLst>
              <a:gd name="textAreaLeft" fmla="*/ 360 w 2209680"/>
              <a:gd name="textAreaRight" fmla="*/ 2210400 w 22096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bstraction penalty probl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er levels of abstraction have a negative effect on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broken into smaller generic sub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d oper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not make local copy of e.g. internal poi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not hoist constant expressions out of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because of alias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++ abstraction penal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ts of (temporary) objects a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rix/vector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live in heap/st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us subject to alia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tracking of current member value very diffic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racking required to keep values in register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aliasing through the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members are virtually as bad as global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++ abstraction penal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301680" y="2382840"/>
          <a:ext cx="8537400" cy="340848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34344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lass Buf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ublic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Clear(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numVals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Buf[i] = 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ivat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numVals, *pBu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40" name=""/>
          <p:cNvSpPr/>
          <p:nvPr/>
        </p:nvSpPr>
        <p:spPr>
          <a:xfrm>
            <a:off x="-381240" y="1447920"/>
            <a:ext cx="9882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er members in classes may alias other me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160" y="6135840"/>
            <a:ext cx="89762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de likely to refetch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numVal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each iter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191120" y="2057400"/>
            <a:ext cx="2895480" cy="1066680"/>
          </a:xfrm>
          <a:prstGeom prst="wedgeRectCallout">
            <a:avLst>
              <a:gd name="adj1" fmla="val -44023"/>
              <a:gd name="adj2" fmla="val 84819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V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t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varia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5029200" y="4076640"/>
            <a:ext cx="1409760" cy="2324160"/>
          </a:xfrm>
          <a:prstGeom prst="wedgeRectCallout">
            <a:avLst>
              <a:gd name="adj1" fmla="val -6194"/>
              <a:gd name="adj2" fmla="val 74314"/>
            </a:avLst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 vert="eaVert" rot="10800000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Bu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5105520" y="3637080"/>
            <a:ext cx="30456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819520" y="3637080"/>
            <a:ext cx="182880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301680" y="2438280"/>
          <a:ext cx="8537400" cy="340848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34344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lass Buf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ublic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Clear(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, n = numVals; i &lt; n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Buf[i] = 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ivat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numVals, *pBu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++ abstraction penal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355680" y="1523880"/>
            <a:ext cx="849312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know that aliasing won’t happen, and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ly solve the aliasing issue by writing code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++ abstraction penal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01680" y="3036960"/>
          <a:ext cx="8537400" cy="267804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26978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Clear(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f (numVals &gt;= 1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Buf[0] = 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1, n = numVals; i &lt; n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Buf[i] = 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51" name=""/>
          <p:cNvSpPr/>
          <p:nvPr/>
        </p:nvSpPr>
        <p:spPr>
          <a:xfrm>
            <a:off x="304920" y="1523880"/>
            <a:ext cx="85341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Buf[i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only alias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V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th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eration, a quality compiler can fix this problem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ling the loop once, turning it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89360" y="6043680"/>
            <a:ext cx="8709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: Do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you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compiler do this optimization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762120" y="2209680"/>
            <a:ext cx="2590560" cy="2667240"/>
          </a:xfrm>
          <a:prstGeom prst="irregularSeal1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-based alias analy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080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liasing the compiler can c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owerful tool i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-based alia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2666880"/>
            <a:ext cx="4952880" cy="1981440"/>
          </a:xfrm>
          <a:prstGeom prst="cloudCallout">
            <a:avLst>
              <a:gd name="adj1" fmla="val -54296"/>
              <a:gd name="adj2" fmla="val 58495"/>
            </a:avLst>
          </a:prstGeom>
          <a:solidFill>
            <a:srgbClr val="c0c0c0">
              <a:alpha val="28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language types to disambiguate memory referen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tebulb"/>
          <p:cNvSpPr/>
          <p:nvPr/>
        </p:nvSpPr>
        <p:spPr>
          <a:xfrm>
            <a:off x="1600200" y="3054240"/>
            <a:ext cx="944640" cy="144144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44280" y="4184640"/>
            <a:ext cx="35370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-based alias analy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44756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I C/C++ states tha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rea of memory can only be associated with one type during its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asing may only occur between references of the sam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ompati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es compiler to rule out aliasing between references of non-compatibl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rned on with –fstrict-aliasing in g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mpatibility of C/C++ typ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44756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shor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compatible if differing b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sign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olat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signed ch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patible with any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not 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ee standard for full details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685800" y="4800600"/>
            <a:ext cx="137160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95480" y="5181480"/>
            <a:ext cx="3049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hat TBAA can do for yo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01680" y="1752480"/>
          <a:ext cx="8537400" cy="158292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5930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float *v, int *n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*n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i] += 1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304920" y="4316400"/>
          <a:ext cx="8537400" cy="194796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961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float *v, int *n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t = *n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t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i] += 1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68" name=""/>
          <p:cNvSpPr/>
          <p:nvPr/>
        </p:nvSpPr>
        <p:spPr>
          <a:xfrm>
            <a:off x="-38880" y="3886200"/>
            <a:ext cx="23176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o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-42480" y="1295280"/>
            <a:ext cx="3401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turn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4799880" y="1905120"/>
            <a:ext cx="3352680" cy="1295280"/>
          </a:xfrm>
          <a:custGeom>
            <a:avLst/>
            <a:gdLst>
              <a:gd name="textAreaLeft" fmla="*/ -360 w 3352680"/>
              <a:gd name="textAreaRight" fmla="*/ 3352680 w 33526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ali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[i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*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4799880" y="4648320"/>
            <a:ext cx="3352680" cy="1295280"/>
          </a:xfrm>
          <a:custGeom>
            <a:avLst/>
            <a:gdLst>
              <a:gd name="textAreaLeft" fmla="*/ -360 w 3352680"/>
              <a:gd name="textAreaRight" fmla="*/ 3352680 w 33526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liasing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fetch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*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Need more justification? 1/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284480" y="2743200"/>
            <a:ext cx="6432480" cy="1647360"/>
          </a:xfrm>
          <a:prstGeom prst="rect">
            <a:avLst/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MD instructions con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ata at 2-8 times th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f normal instruc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22880" y="2260440"/>
            <a:ext cx="5640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struction parallel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hat TBAA can also 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228600" y="2362320"/>
          <a:ext cx="2895480" cy="358092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5809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int32 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 = *((uint32 *)&amp;f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5867280" y="2362320"/>
          <a:ext cx="3048120" cy="35812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581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int32 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nion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char8 c[4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 u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.f =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 = (u.c[3]&lt;&lt;24L)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u.c[2]&lt;&lt;16L)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...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75" name=""/>
          <p:cNvSpPr/>
          <p:nvPr/>
        </p:nvSpPr>
        <p:spPr>
          <a:xfrm>
            <a:off x="304920" y="1219320"/>
            <a:ext cx="8540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 obscure bugs in non-conforming co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ware especially so-called “type punn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200400" y="2362320"/>
          <a:ext cx="2590560" cy="35809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5809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int32 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nion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int32 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 u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.f =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 = u.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77" name=""/>
          <p:cNvSpPr/>
          <p:nvPr/>
        </p:nvSpPr>
        <p:spPr>
          <a:xfrm rot="16200000">
            <a:off x="6858000" y="5181480"/>
            <a:ext cx="1143000" cy="19047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787" y="0"/>
                </a:lnTo>
                <a:lnTo>
                  <a:pt x="21600" y="10800"/>
                </a:lnTo>
                <a:lnTo>
                  <a:pt x="127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16200000">
            <a:off x="3886200" y="5181480"/>
            <a:ext cx="1143000" cy="19047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787" y="0"/>
                </a:lnTo>
                <a:lnTo>
                  <a:pt x="21600" y="10800"/>
                </a:lnTo>
                <a:lnTo>
                  <a:pt x="127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16200000">
            <a:off x="1066680" y="5181120"/>
            <a:ext cx="1143000" cy="1905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787" y="0"/>
                </a:lnTo>
                <a:lnTo>
                  <a:pt x="21600" y="10800"/>
                </a:lnTo>
                <a:lnTo>
                  <a:pt x="127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/C++ co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strict-qualified point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o 1999 ANSI/ISO C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in C++ standard yet, but supported by many C++ compi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int only, so may do nothing and still be confor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strict-qualified pointer (or reference)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basically a promise to the compiler that for the scope of the pointer, the target of the pointer will only be accessed through that pointer (and pointers copied from i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ndard for full details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685800" y="4389480"/>
            <a:ext cx="297180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95480" y="4770360"/>
            <a:ext cx="3049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28800" y="5151600"/>
            <a:ext cx="60948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Using the restrict keywor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304920" y="1828800"/>
          <a:ext cx="8537400" cy="158256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5930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float v[], float *c, int n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n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i] = *c + 1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87" name=""/>
          <p:cNvSpPr/>
          <p:nvPr/>
        </p:nvSpPr>
        <p:spPr>
          <a:xfrm>
            <a:off x="-82080" y="1403280"/>
            <a:ext cx="3509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this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-224280" y="3540240"/>
            <a:ext cx="9413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really want the compiler to treat it as if writ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0440" y="6054840"/>
            <a:ext cx="829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ut because of possible aliasing it canno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304920" y="3965400"/>
          <a:ext cx="8537400" cy="194796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961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float v[], float *c, int n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tmp = *c + 1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n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i] = t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743200" y="3886200"/>
            <a:ext cx="16765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743200" y="5105520"/>
            <a:ext cx="167652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304920" y="4986360"/>
          <a:ext cx="8537400" cy="50004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5000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] = 1, 1, 1, 1, 1, 1, 1, 1, 1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304920" y="3767040"/>
          <a:ext cx="8537400" cy="50004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5000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] = 1, 1, 1, 1, 1, 2, 2, 2, 2,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Using the restrict keywor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-150480" y="3300480"/>
            <a:ext cx="5262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ing for the first 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-153000" y="4519440"/>
            <a:ext cx="54162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for the second 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301680" y="1832040"/>
          <a:ext cx="8537400" cy="121752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2247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a[10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4] = 0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o(a, &amp;a[4], 10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99" name=""/>
          <p:cNvSpPr/>
          <p:nvPr/>
        </p:nvSpPr>
        <p:spPr>
          <a:xfrm>
            <a:off x="304920" y="1371600"/>
            <a:ext cx="693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, the code might be call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16080" y="5715000"/>
            <a:ext cx="8523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compiler must be conservative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nnot perform the optimiz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676520" y="2063880"/>
            <a:ext cx="228600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304920" y="1987560"/>
          <a:ext cx="8537400" cy="158256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5930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float * restrict v, float *c, int n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n; i++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i] = *c + 1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olving the aliasing probl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-144360" y="1558800"/>
            <a:ext cx="7640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ix? Declaring the output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52280" y="3962520"/>
            <a:ext cx="8839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as, in practice may need to declar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ointers restri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restrict-qualified pointer can grant access to non-restrict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ll data-flow analysis required to detect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two restrict-qualified pointers are trivially non-alias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may work declaring second argument as “float *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895480" y="1911240"/>
            <a:ext cx="198144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304920" y="1835280"/>
          <a:ext cx="8537400" cy="159372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5937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float v[], const float *c, int n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n; i++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i] = *c + 1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nst’ doesn’t hel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-195120" y="1406520"/>
            <a:ext cx="6665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might think this would 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52280" y="434340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ong!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mises almost no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s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*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t through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*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t i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cast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tecting programming errors, not fixing ali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rot="10800000">
            <a:off x="1522800" y="3200400"/>
            <a:ext cx="4496040" cy="914400"/>
          </a:xfrm>
          <a:prstGeom prst="wedgeRectCallout">
            <a:avLst>
              <a:gd name="adj1" fmla="val -37115"/>
              <a:gd name="adj2" fmla="val 74824"/>
            </a:avLst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 rot="10800000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*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const,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v[i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not write to it, r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895480" y="4648320"/>
            <a:ext cx="114300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IMD + restrict = TRU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nables SIMD 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304920" y="2286000"/>
          <a:ext cx="8534160" cy="1582560"/>
        </p:xfrm>
        <a:graphic>
          <a:graphicData uri="http://schemas.openxmlformats.org/drawingml/2006/table">
            <a:tbl>
              <a:tblPr/>
              <a:tblGrid>
                <a:gridCol w="8534160"/>
              </a:tblGrid>
              <a:tr h="15930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VecAdd(int *a, int *b, int *c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4; i++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i] = b[i] + c[i]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304920" y="4529160"/>
          <a:ext cx="8537400" cy="158256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5930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VecAdd(int * restrict a, int *b, int *c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4; i++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i] = b[i] + c[i]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7" name=""/>
          <p:cNvSpPr/>
          <p:nvPr/>
        </p:nvSpPr>
        <p:spPr>
          <a:xfrm>
            <a:off x="4876920" y="5029200"/>
            <a:ext cx="4114800" cy="18176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load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s. Operations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performed in parall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876920" y="2819520"/>
            <a:ext cx="4114800" cy="1817640"/>
          </a:xfrm>
          <a:prstGeom prst="rect">
            <a:avLst/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s may alias lo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erform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strict-qualified point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ortant, especially with C+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ps combat abstraction penalty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ut bewar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cky semantics, easy to get wr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iler won’t tell you about incorrect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rect use = slow painful death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ips for avoiding alias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use of globals, pointers, 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small variables by-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line small functions taking pointer or reference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local variables as much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local copies of global and class member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take the address of variables (with &amp;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inters and 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 variables close to point of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 side-effect free functions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manual CSE, especially of pointer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at’s it! </a:t>
            </a:r>
            <a:r>
              <a:rPr b="1" lang="en-US" sz="4400" spc="-1" strike="noStrike">
                <a:solidFill>
                  <a:srgbClr val="000000"/>
                </a:solidFill>
                <a:latin typeface="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sources 1/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icson, Christer. Real-time collision detection. Morgan-Kaufmann, 2005. (Chapter on memory optimiz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tchell, Mark. Type-based alias analysis. Dr. Dobb’s journal, October 20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ison, Arch. Restricted pointers are coming. C/C++ Users Journal, July 1999. </a:t>
            </a:r>
            <a:r>
              <a:rPr b="0" lang="en-US" sz="2000" spc="-1" strike="noStrike" u="sng">
                <a:solidFill>
                  <a:srgbClr val="9966ff"/>
                </a:solidFill>
                <a:uFillTx/>
                <a:latin typeface="Tahoma"/>
                <a:hlinkClick r:id="rId1"/>
              </a:rPr>
              <a:t>http://www.cuj.com/articles/1999/9907/9907d/9907d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imbi, Trishul. Cache-conscious data structures - design and implementation. PhD Thesis. University of Wisconsin, Madison, 199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kop, Harald. Cache-oblivious algorithms. Master’s Thesis. MIT, June, 199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Need more justification? 2/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1053720" y="2313000"/>
            <a:ext cx="6891120" cy="2529000"/>
          </a:xfrm>
          <a:prstGeom prst="rect">
            <a:avLst/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rovement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iler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uble program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ve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~18 year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35520" y="1828800"/>
            <a:ext cx="4314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ebsting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-236880" y="5008680"/>
            <a:ext cx="9497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ollary: Don’t expect the compiler to do it for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sources 2/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vin, Andrew. Stephen White. Teaching an old dog new bits: How console developers are able to improve performance when the hardware hasn’t changed. Gamasutra. November 12, 1999 </a:t>
            </a:r>
            <a:r>
              <a:rPr b="0" lang="en-US" sz="2000" spc="-1" strike="noStrike" u="sng">
                <a:solidFill>
                  <a:srgbClr val="9966ff"/>
                </a:solidFill>
                <a:uFillTx/>
                <a:latin typeface="Tahoma"/>
                <a:hlinkClick r:id="rId1"/>
              </a:rPr>
              <a:t>http://www.gamasutra.com/features/19991112/GavinWhite_01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y, Jim. The cache memory book. Academic Press, 1998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ris, Alexandre. Pascal Urro. Leveraging the power of cache memory. Gamasutra. April 9, 1999 </a:t>
            </a:r>
            <a:r>
              <a:rPr b="0" lang="en-US" sz="2000" spc="-1" strike="noStrike" u="sng">
                <a:solidFill>
                  <a:srgbClr val="9966ff"/>
                </a:solidFill>
                <a:uFillTx/>
                <a:latin typeface="Tahoma"/>
                <a:hlinkClick r:id="rId2"/>
              </a:rPr>
              <a:t>http://www.gamasutra.com/features/19990409/cache_01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ss, Ornit. Pentium III prefetch optimizations using the VTune performance analyzer. Gamasutra. July 30, 1999 </a:t>
            </a:r>
            <a:r>
              <a:rPr b="0" lang="en-US" sz="2000" spc="-1" strike="noStrike" u="sng">
                <a:solidFill>
                  <a:srgbClr val="9966ff"/>
                </a:solidFill>
                <a:uFillTx/>
                <a:latin typeface="Tahoma"/>
                <a:hlinkClick r:id="rId3"/>
              </a:rPr>
              <a:t>http</a:t>
            </a:r>
            <a:r>
              <a:rPr b="0" lang="en-US" sz="2000" spc="-1" strike="noStrike" u="sng">
                <a:solidFill>
                  <a:srgbClr val="9966ff"/>
                </a:solidFill>
                <a:uFillTx/>
                <a:latin typeface="Tahoma"/>
                <a:hlinkClick r:id="rId4"/>
              </a:rPr>
              <a:t>://www.gamasutra.com/features/19990730/sse_prefetch_01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ong, Dan. François Bodin. Andr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znec. Improving cache behavior of dynamically allocated data structu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Need more justification? 3/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2123280" y="1828800"/>
            <a:ext cx="4105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n Moore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7543800" cy="2361960"/>
          </a:xfrm>
          <a:prstGeom prst="rect">
            <a:avLst/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txBody>
          <a:bodyPr lIns="90000" rIns="90000" tIns="137160" bIns="13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oles don’t follow it (as suc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xed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nd/3rd generation titles must get improvements from some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rief cache revie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cache for instructions, data cache fo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s a memory hierarc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ch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 divided into cache lines of ~32/64 bytes e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 unit in which to count memory ac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rect-map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n KB cache, bytes at k, k+n, k+2n, … map to same cache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-way set-associ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ache line corresponds to N physical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ps minimize cache line thra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memory hierarch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676520" y="4800600"/>
            <a:ext cx="3809880" cy="838080"/>
          </a:xfrm>
          <a:prstGeom prst="rect">
            <a:avLst/>
          </a:prstGeom>
          <a:solidFill>
            <a:srgbClr val="f1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209680" y="3962520"/>
            <a:ext cx="281952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2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743200" y="3124080"/>
            <a:ext cx="1905120" cy="76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1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48120" y="2286000"/>
            <a:ext cx="1371600" cy="762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08040" y="3100320"/>
            <a:ext cx="2666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1-5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825880" y="3986280"/>
            <a:ext cx="2869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5-20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445360" y="4871880"/>
            <a:ext cx="3274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40-100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45320" y="2286000"/>
            <a:ext cx="1976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397200" y="1600200"/>
            <a:ext cx="2327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ough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00:45:09Z</dcterms:created>
  <dc:creator>Christer Ericson (christer_ericson@playstation.sony.com)</dc:creator>
  <dc:description/>
  <dc:language>en-US</dc:language>
  <cp:lastModifiedBy>Preferred Customer</cp:lastModifiedBy>
  <dcterms:modified xsi:type="dcterms:W3CDTF">2005-03-23T22:48:25Z</dcterms:modified>
  <cp:revision>337</cp:revision>
  <dc:subject/>
  <dc:title>MEMORY OPTIMIZATION</dc:title>
</cp:coreProperties>
</file>