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46D-8F5A-498E-807D-6D74270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54F-485F-4BCD-895C-A3F78FE0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EC6-BB0E-4B4A-B357-E262C670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296-ECF9-4843-B392-121602F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D1E-C106-4866-8CAD-9B9EDEF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D15-3AAD-43AF-8D3D-47FB891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4B0-4D0E-444C-BBAA-E43B7BDA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116-54C3-4F09-8586-9DDEB8CB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5B40-D29F-4573-92D3-1F3A145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A77-4EDE-4BD0-93A7-9830331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CDA-5647-4C4E-A49D-CFB01DA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756-5D46-494B-9F44-06E7A30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37BB-F9ED-49F5-82CB-1722D4B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F31-120C-4455-9A41-AED835A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E52-5580-47B4-A058-F131335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2F9-D3C4-463C-975A-A383E5A9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74ED-58E0-4518-9D89-3D81A4A2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BE9-4511-41A3-B8C3-94F25B7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4A7-BDD9-43C9-B4AD-E07CD52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8DC-0595-46D5-BDD3-18888DCE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3CC-55FC-4FCD-9B59-D36558D5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1B1-F4E4-44B1-A181-2440C63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510-593A-423E-9D7E-8DABDA3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45F-AC3A-46AA-8612-83316C5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1E3-86B5-402A-A078-3F0074F4D1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509-A4CA-4797-A2EA-36943D2133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uj.com/articles/1999/9907/9907d/9907d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19991112/GavinWhite_01.htm" TargetMode="External"/><Relationship Id="rId2" Type="http://schemas.openxmlformats.org/officeDocument/2006/relationships/hyperlink" Target="http://www.gamasutra.com/features/19990409/cache_01.htm" TargetMode="External"/><Relationship Id="rId3" Type="http://schemas.openxmlformats.org/officeDocument/2006/relationships/hyperlink" Target="http://www.gamasutra.com/features/19990730/sse_prefetch_01.htm" TargetMode="External"/><Relationship Id="rId4" Type="http://schemas.openxmlformats.org/officeDocument/2006/relationships/hyperlink" Target="http://www.gamasutra.com/features/19990730/sse_prefetch_01.htm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MEMORY OPTIMIZ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rister Eric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ny Computer Entertainment, Santa Mo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hrister_ericson@playstation.sony.c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me cache spe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600200"/>
          <a:ext cx="8153280" cy="2300400"/>
        </p:xfrm>
        <a:graphic>
          <a:graphicData uri="http://schemas.openxmlformats.org/drawingml/2006/table">
            <a:tbl>
              <a:tblPr/>
              <a:tblGrid>
                <a:gridCol w="2022480"/>
                <a:gridCol w="2765520"/>
                <a:gridCol w="336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1 cache (I/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8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eCu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K/32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8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6K 2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16K 4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K 8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32-64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28-512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207720" y="4419720"/>
            <a:ext cx="8236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K data scratchpad important part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ble as 16K 4-way + 16K scratch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oes: 3 C’s of cache mi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lsor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voidable misses when data read for firs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acit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ough cache space to hold all ac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uch data accessed inbetween successive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lict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thrashing due to data mapping to same cache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riends: Introducing the 3 R’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1680" y="4330800"/>
          <a:ext cx="8540640" cy="20700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ls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r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301680" y="1295280"/>
            <a:ext cx="8540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rrange (code,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layout to increase spati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 (size, # cache line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/smarter formats,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use (cache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temporal (and spatial)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asuring cache uti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performance/event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memory access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access patterns (e.g. str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 Systems’ Tuner, Metrowerks’ CATS, Intel’s V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l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cc ‘-p’ option + def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mcoun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 code with calls to logg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back-of-the-envelope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y the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within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object files during linking (order in make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_attribute__ ((section ("xxx")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g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 coding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lithic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/OOP is less code cache friend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ing tar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 various implicit functions (e.g. fpto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: inlining, unrolling, large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featur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multiple copies (also helps loca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splitting and loop f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for size (‘-Os’ in g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rite in asm (where it cou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ain, study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intuition about cod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ata cache optim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s and lots of stuff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ng”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and strip m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 data to align to 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 other things I won’t go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 will talk abo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tching and preloading data in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conscious structur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and “anti-alias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early – data may be evicted befor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late – data not fetched in time f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loading (pseudo-prefetch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-under-miss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3886200"/>
            <a:ext cx="46483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04920" y="3048120"/>
          <a:ext cx="8537400" cy="305100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066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t int kLookAhead = 4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Some elements a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elem[i + kLookAhead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0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1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2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3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1680" y="1600200"/>
          <a:ext cx="8537400" cy="12952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95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Loop through and process all 4n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388620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243828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edy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1680" y="1600200"/>
          <a:ext cx="8540640" cy="413856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1709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PreorderTraversal(Node *pNode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lef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Process the current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pNod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righ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Recursively visit left then right sub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“memory optimizat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ief architecture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timizing for (code and) data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2438280"/>
            <a:ext cx="68580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loading (pseudo-prefetch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01680" y="160020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a = elem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e = elem[i + 4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miss, non-blo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b = elem[i + 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c = elem[i + 2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d = elem[i + 3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b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c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d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=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-304920" y="6254640"/>
            <a:ext cx="91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B: This code reads one element beyond the end of the elem array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che-conscious 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reordering (usually grouped conceptu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t use decid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of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s of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ttle compiler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for non-pointer languages (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/C++: do it your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19520" y="411480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5562720"/>
            <a:ext cx="8384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01680" y="3276720"/>
          <a:ext cx="4879800" cy="3408120"/>
        </p:xfrm>
        <a:graphic>
          <a:graphicData uri="http://schemas.openxmlformats.org/drawingml/2006/table">
            <a:tbl>
              <a:tblPr/>
              <a:tblGrid>
                <a:gridCol w="48798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S *p, void *key, int k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ile (p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p-&gt;key == key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-&gt;count[k]++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reak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 = p-&gt;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eld reord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01680" y="1295280"/>
          <a:ext cx="3660480" cy="1855800"/>
        </p:xfrm>
        <a:graphic>
          <a:graphicData uri="http://schemas.openxmlformats.org/drawingml/2006/table">
            <a:tbl>
              <a:tblPr/>
              <a:tblGrid>
                <a:gridCol w="36604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181480" y="1295280"/>
          <a:ext cx="3657240" cy="1855800"/>
        </p:xfrm>
        <a:graphic>
          <a:graphicData uri="http://schemas.openxmlformats.org/drawingml/2006/table">
            <a:tbl>
              <a:tblPr/>
              <a:tblGrid>
                <a:gridCol w="36572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2514600" y="182880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514600" y="2209320"/>
            <a:ext cx="3048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938760"/>
            <a:ext cx="3429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ly accessed together so store them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3173400"/>
            <a:ext cx="3808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301680" y="2030400"/>
          <a:ext cx="3660840" cy="1855800"/>
        </p:xfrm>
        <a:graphic>
          <a:graphicData uri="http://schemas.openxmlformats.org/drawingml/2006/table">
            <a:tbl>
              <a:tblPr/>
              <a:tblGrid>
                <a:gridCol w="3660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2 *pCol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6172200" y="2106720"/>
            <a:ext cx="3808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181480" y="2030400"/>
          <a:ext cx="3657600" cy="18284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2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66880" y="2258640"/>
            <a:ext cx="24386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1680" y="403848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all ‘struct S’ from a memory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 array-styl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ed for actual pointer to col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-38520" y="1547640"/>
            <a:ext cx="2553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34080" y="1523880"/>
            <a:ext cx="2695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d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ware compiler pad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1680" y="1600200"/>
          <a:ext cx="2593800" cy="3123720"/>
        </p:xfrm>
        <a:graphic>
          <a:graphicData uri="http://schemas.openxmlformats.org/drawingml/2006/table">
            <a:tbl>
              <a:tblPr/>
              <a:tblGrid>
                <a:gridCol w="2593800"/>
              </a:tblGrid>
              <a:tr h="312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X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5029200"/>
            <a:ext cx="85406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4-byte floats, for most compilers sizeof(X) == 40, sizeof(Y) == 40, and sizeof(Z) == 2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172200" y="1600200"/>
          <a:ext cx="2669760" cy="3124080"/>
        </p:xfrm>
        <a:graphic>
          <a:graphicData uri="http://schemas.openxmlformats.org/drawingml/2006/table">
            <a:tbl>
              <a:tblPr/>
              <a:tblGrid>
                <a:gridCol w="2669760"/>
              </a:tblGrid>
              <a:tr h="3124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Z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971800" y="1600200"/>
          <a:ext cx="3124080" cy="31161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139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Y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, pad_a[7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, pad_c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, pad_d[2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, pad_f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8077320" y="2057400"/>
            <a:ext cx="0" cy="213372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66600" y="1547280"/>
            <a:ext cx="4726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ahoma"/>
              </a:rPr>
              <a:t>Decreasing si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che performance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ag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y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t or cold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lation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is for field re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g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all class members through accessor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instrument functions to call Log()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() func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object type + member field as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args to count field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+ previous args to track pairwise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arrang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aware vs. cache-oblivious lay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u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elimination (using implicit point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data relative to pa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ead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1139760"/>
            <a:ext cx="6858000" cy="4353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-less: Left(n)=2n, Right(n)=2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storage for complete tree of height 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p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(n) = n + 1, Right(n) = stored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tores existing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219320" y="1204920"/>
            <a:ext cx="655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ia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 analysis (type-ba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’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s for reducing ali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an Emde Boas layou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8077320" cy="3998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54072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oblivio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ive 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 compact static k-d tre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3660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ion KD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leaf, type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32 leafIndex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non-leaf, type 00 = x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01 = y, 10 = z-spl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splitVal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5184720" cy="19144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52280" y="4017960"/>
            <a:ext cx="88394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hing better than linea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possibl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ly prefet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 linearize data at runtim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 data, store linearized in a custom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t to lineariz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 traver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random-access stu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09480" y="130320"/>
            <a:ext cx="77724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mory allocation poli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’t allocate from heap, use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lock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s data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too, and no 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e ASAP, reuse immedi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is likely in cache so reuse its cach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fit, using free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2286000" y="104760"/>
            <a:ext cx="2724120" cy="1495440"/>
            <a:chOff x="2286000" y="104760"/>
            <a:chExt cx="2724120" cy="1495440"/>
          </a:xfrm>
        </p:grpSpPr>
        <p:sp>
          <p:nvSpPr>
            <p:cNvPr id="496" name=""/>
            <p:cNvSpPr/>
            <p:nvPr/>
          </p:nvSpPr>
          <p:spPr>
            <a:xfrm>
              <a:off x="2286000" y="210960"/>
              <a:ext cx="2724120" cy="1152360"/>
            </a:xfrm>
            <a:custGeom>
              <a:avLst/>
              <a:gdLst/>
              <a:ahLst/>
              <a:rect l="l" t="t" r="r" b="b"/>
              <a:pathLst>
                <a:path w="1212" h="726">
                  <a:moveTo>
                    <a:pt x="413" y="127"/>
                  </a:moveTo>
                  <a:cubicBezTo>
                    <a:pt x="346" y="85"/>
                    <a:pt x="305" y="39"/>
                    <a:pt x="251" y="63"/>
                  </a:cubicBezTo>
                  <a:cubicBezTo>
                    <a:pt x="197" y="87"/>
                    <a:pt x="214" y="155"/>
                    <a:pt x="182" y="201"/>
                  </a:cubicBezTo>
                  <a:cubicBezTo>
                    <a:pt x="150" y="247"/>
                    <a:pt x="19" y="192"/>
                    <a:pt x="14" y="252"/>
                  </a:cubicBezTo>
                  <a:cubicBezTo>
                    <a:pt x="9" y="312"/>
                    <a:pt x="83" y="312"/>
                    <a:pt x="89" y="375"/>
                  </a:cubicBezTo>
                  <a:cubicBezTo>
                    <a:pt x="95" y="438"/>
                    <a:pt x="0" y="463"/>
                    <a:pt x="27" y="526"/>
                  </a:cubicBezTo>
                  <a:cubicBezTo>
                    <a:pt x="54" y="589"/>
                    <a:pt x="99" y="513"/>
                    <a:pt x="156" y="549"/>
                  </a:cubicBezTo>
                  <a:cubicBezTo>
                    <a:pt x="213" y="585"/>
                    <a:pt x="150" y="657"/>
                    <a:pt x="197" y="690"/>
                  </a:cubicBezTo>
                  <a:cubicBezTo>
                    <a:pt x="244" y="723"/>
                    <a:pt x="309" y="639"/>
                    <a:pt x="381" y="653"/>
                  </a:cubicBezTo>
                  <a:cubicBezTo>
                    <a:pt x="453" y="667"/>
                    <a:pt x="448" y="704"/>
                    <a:pt x="498" y="712"/>
                  </a:cubicBezTo>
                  <a:cubicBezTo>
                    <a:pt x="548" y="720"/>
                    <a:pt x="576" y="655"/>
                    <a:pt x="609" y="645"/>
                  </a:cubicBezTo>
                  <a:cubicBezTo>
                    <a:pt x="642" y="635"/>
                    <a:pt x="659" y="726"/>
                    <a:pt x="707" y="709"/>
                  </a:cubicBezTo>
                  <a:cubicBezTo>
                    <a:pt x="755" y="692"/>
                    <a:pt x="777" y="596"/>
                    <a:pt x="830" y="595"/>
                  </a:cubicBezTo>
                  <a:cubicBezTo>
                    <a:pt x="883" y="594"/>
                    <a:pt x="935" y="679"/>
                    <a:pt x="970" y="666"/>
                  </a:cubicBezTo>
                  <a:cubicBezTo>
                    <a:pt x="1005" y="653"/>
                    <a:pt x="998" y="597"/>
                    <a:pt x="1020" y="555"/>
                  </a:cubicBezTo>
                  <a:cubicBezTo>
                    <a:pt x="1042" y="513"/>
                    <a:pt x="1131" y="570"/>
                    <a:pt x="1160" y="531"/>
                  </a:cubicBezTo>
                  <a:cubicBezTo>
                    <a:pt x="1189" y="492"/>
                    <a:pt x="1122" y="459"/>
                    <a:pt x="1128" y="433"/>
                  </a:cubicBezTo>
                  <a:cubicBezTo>
                    <a:pt x="1134" y="407"/>
                    <a:pt x="1212" y="384"/>
                    <a:pt x="1190" y="343"/>
                  </a:cubicBezTo>
                  <a:cubicBezTo>
                    <a:pt x="1168" y="302"/>
                    <a:pt x="1067" y="331"/>
                    <a:pt x="1054" y="285"/>
                  </a:cubicBezTo>
                  <a:cubicBezTo>
                    <a:pt x="1041" y="239"/>
                    <a:pt x="1080" y="181"/>
                    <a:pt x="1059" y="148"/>
                  </a:cubicBezTo>
                  <a:cubicBezTo>
                    <a:pt x="1038" y="115"/>
                    <a:pt x="959" y="195"/>
                    <a:pt x="897" y="160"/>
                  </a:cubicBezTo>
                  <a:cubicBezTo>
                    <a:pt x="835" y="125"/>
                    <a:pt x="875" y="38"/>
                    <a:pt x="830" y="19"/>
                  </a:cubicBezTo>
                  <a:cubicBezTo>
                    <a:pt x="785" y="0"/>
                    <a:pt x="730" y="84"/>
                    <a:pt x="696" y="90"/>
                  </a:cubicBezTo>
                  <a:cubicBezTo>
                    <a:pt x="662" y="96"/>
                    <a:pt x="590" y="27"/>
                    <a:pt x="549" y="40"/>
                  </a:cubicBezTo>
                  <a:cubicBezTo>
                    <a:pt x="508" y="53"/>
                    <a:pt x="480" y="169"/>
                    <a:pt x="413" y="12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81280" y="1277640"/>
              <a:ext cx="231840" cy="322560"/>
            </a:xfrm>
            <a:custGeom>
              <a:avLst/>
              <a:gdLst/>
              <a:ahLst/>
              <a:rect l="l" t="t" r="r" b="b"/>
              <a:pathLst>
                <a:path w="146" h="203">
                  <a:moveTo>
                    <a:pt x="14" y="43"/>
                  </a:moveTo>
                  <a:cubicBezTo>
                    <a:pt x="0" y="86"/>
                    <a:pt x="2" y="159"/>
                    <a:pt x="38" y="181"/>
                  </a:cubicBezTo>
                  <a:cubicBezTo>
                    <a:pt x="74" y="203"/>
                    <a:pt x="98" y="201"/>
                    <a:pt x="122" y="175"/>
                  </a:cubicBezTo>
                  <a:cubicBezTo>
                    <a:pt x="146" y="149"/>
                    <a:pt x="94" y="31"/>
                    <a:pt x="74" y="19"/>
                  </a:cubicBezTo>
                  <a:cubicBezTo>
                    <a:pt x="54" y="7"/>
                    <a:pt x="28" y="0"/>
                    <a:pt x="14" y="4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9000" y="104760"/>
              <a:ext cx="206280" cy="24588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" y="33"/>
                  </a:moveTo>
                  <a:cubicBezTo>
                    <a:pt x="0" y="49"/>
                    <a:pt x="52" y="139"/>
                    <a:pt x="66" y="147"/>
                  </a:cubicBezTo>
                  <a:cubicBezTo>
                    <a:pt x="80" y="155"/>
                    <a:pt x="118" y="153"/>
                    <a:pt x="124" y="129"/>
                  </a:cubicBezTo>
                  <a:cubicBezTo>
                    <a:pt x="130" y="105"/>
                    <a:pt x="118" y="18"/>
                    <a:pt x="88" y="9"/>
                  </a:cubicBezTo>
                  <a:cubicBezTo>
                    <a:pt x="58" y="0"/>
                    <a:pt x="20" y="17"/>
                    <a:pt x="10" y="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47960" y="1201680"/>
              <a:ext cx="187560" cy="174600"/>
            </a:xfrm>
            <a:custGeom>
              <a:avLst/>
              <a:gdLst/>
              <a:ahLst/>
              <a:rect l="l" t="t" r="r" b="b"/>
              <a:pathLst>
                <a:path w="118" h="110">
                  <a:moveTo>
                    <a:pt x="10" y="24"/>
                  </a:moveTo>
                  <a:cubicBezTo>
                    <a:pt x="0" y="40"/>
                    <a:pt x="46" y="92"/>
                    <a:pt x="60" y="100"/>
                  </a:cubicBezTo>
                  <a:cubicBezTo>
                    <a:pt x="74" y="108"/>
                    <a:pt x="106" y="110"/>
                    <a:pt x="112" y="86"/>
                  </a:cubicBezTo>
                  <a:cubicBezTo>
                    <a:pt x="118" y="62"/>
                    <a:pt x="80" y="18"/>
                    <a:pt x="50" y="9"/>
                  </a:cubicBezTo>
                  <a:cubicBezTo>
                    <a:pt x="20" y="0"/>
                    <a:pt x="20" y="8"/>
                    <a:pt x="10" y="2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09840" y="1157040"/>
              <a:ext cx="199800" cy="206280"/>
            </a:xfrm>
            <a:custGeom>
              <a:avLst/>
              <a:gdLst/>
              <a:ahLst/>
              <a:rect l="l" t="t" r="r" b="b"/>
              <a:pathLst>
                <a:path w="126" h="130">
                  <a:moveTo>
                    <a:pt x="74" y="18"/>
                  </a:moveTo>
                  <a:cubicBezTo>
                    <a:pt x="30" y="34"/>
                    <a:pt x="4" y="42"/>
                    <a:pt x="2" y="66"/>
                  </a:cubicBezTo>
                  <a:cubicBezTo>
                    <a:pt x="0" y="90"/>
                    <a:pt x="8" y="130"/>
                    <a:pt x="38" y="124"/>
                  </a:cubicBezTo>
                  <a:cubicBezTo>
                    <a:pt x="68" y="118"/>
                    <a:pt x="126" y="48"/>
                    <a:pt x="120" y="24"/>
                  </a:cubicBezTo>
                  <a:cubicBezTo>
                    <a:pt x="114" y="0"/>
                    <a:pt x="118" y="2"/>
                    <a:pt x="74" y="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lia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04920" y="4343400"/>
          <a:ext cx="8533440" cy="194796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Foo(int *a, int *b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a = 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b 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turn *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04920" y="2135160"/>
          <a:ext cx="8533440" cy="121752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1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2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304920" y="3809880"/>
            <a:ext cx="853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also missed opportunities for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5219640" y="3924360"/>
            <a:ext cx="1447920" cy="2743200"/>
          </a:xfrm>
          <a:prstGeom prst="wedgeRectCallout">
            <a:avLst>
              <a:gd name="adj1" fmla="val 26972"/>
              <a:gd name="adj2" fmla="val 116375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va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e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know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5600160" y="876240"/>
            <a:ext cx="1447920" cy="3809880"/>
          </a:xfrm>
          <a:prstGeom prst="wedgeRectCallout">
            <a:avLst>
              <a:gd name="adj1" fmla="val 13263"/>
              <a:gd name="adj2" fmla="val 97875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storag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causing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variables/class members make it w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problem with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ders reordering/elimination of loads/s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soning data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Negatively affects instruction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nders common subexpression elimination (CSE), loop-invariant code motion, constant/copy propagat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w do we do ‘anti-aliasing’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be done about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liasing, lower abstraction penal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comp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as analysis such as type-based alias analysi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programmers (aiding the compi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’s you, after the next 20 slid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p of fa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no-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6019920"/>
            <a:ext cx="2438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01680" y="1981080"/>
          <a:ext cx="8540640" cy="340848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2; i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j = 0; j &lt; 2; j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k = 0; k &lt; 2; k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+= b[i][k] * c[k][j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-248040" y="1523880"/>
            <a:ext cx="8848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optimizing a 2x2 matrix multi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192960" y="5738760"/>
            <a:ext cx="8936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ypically optimize it? Right, unrol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905120" y="3200400"/>
            <a:ext cx="9903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3200400"/>
            <a:ext cx="10666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99072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4120" y="3505320"/>
            <a:ext cx="99036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05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3886200"/>
            <a:ext cx="990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886200"/>
            <a:ext cx="1066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1680" y="4724280"/>
            <a:ext cx="8540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ait! There’s a hidden assumption! a is not b or 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doesn’t (cannot) kn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 Must refetch b[0][0] and b[0]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 Must refetch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 Must refetch b[0][0], b[0][1],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-201960" y="1523880"/>
            <a:ext cx="739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ghtforward unrolling results i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01680" y="1969920"/>
          <a:ext cx="8540640" cy="267804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16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[0][0]*c[0][0] + b[0][1]*c[1]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[0][0]*c[0][1] + b[0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[1][0]*c[0][0] + b[1][1]*c[1][0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[1][0]*c[0][1] + b[1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the last 20-something yea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speeds have increased ~6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speeds only decreased ~1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p covered by use of cach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is under-explo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inishing returns for larger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fficient cache use = lower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ncrease cache utilization? Cache-awarenes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01680" y="183672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8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00 = b[0][0], b01 = b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10 = b[1][0], b11 = b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00 = c[0][0], c01 = c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10 = c[1][0], c11 = c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00*c00 + b0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00*c01 + b0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10*c00 + b1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10*c01 + b1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-174240" y="1395360"/>
            <a:ext cx="7854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rrect approach is instead writing it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520" y="4419720"/>
            <a:ext cx="2209680" cy="144756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ff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48520" y="2666880"/>
            <a:ext cx="2209680" cy="144792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levels of abstraction have a negative effect o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broken into smaller generic sub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d oper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make local copy of e.g. internal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hoist constant expressions out of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because of alias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(temporary) objects a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x/vecto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live in heap/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 subject to 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tracking of current member value very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racking required to keep values in register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aliasing through th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members are virtually as bad as global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01680" y="238284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umVals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-381240" y="1447920"/>
            <a:ext cx="988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members in classes may alias other me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160" y="6135840"/>
            <a:ext cx="8976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likely to refetch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ach ite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2057400"/>
            <a:ext cx="2895480" cy="1066680"/>
          </a:xfrm>
          <a:prstGeom prst="wedgeRectCallout">
            <a:avLst>
              <a:gd name="adj1" fmla="val -44023"/>
              <a:gd name="adj2" fmla="val 84819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5029200" y="4076640"/>
            <a:ext cx="1409760" cy="2324160"/>
          </a:xfrm>
          <a:prstGeom prst="wedgeRectCallout">
            <a:avLst>
              <a:gd name="adj1" fmla="val -6194"/>
              <a:gd name="adj2" fmla="val 7431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105520" y="3637080"/>
            <a:ext cx="304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3637080"/>
            <a:ext cx="18288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01680" y="243828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355680" y="1523880"/>
            <a:ext cx="84931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know that aliasing won’t happen, and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 solve the aliasing issue by writing code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1680" y="3036960"/>
          <a:ext cx="8537400" cy="2678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numVals &gt;= 1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0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1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304920" y="1523880"/>
            <a:ext cx="8534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only alias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ion, a quality compiler can fix this problem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ling the loop once, turning i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9360" y="6043680"/>
            <a:ext cx="87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: D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ompiler do this optimization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62120" y="2209680"/>
            <a:ext cx="2590560" cy="2667240"/>
          </a:xfrm>
          <a:prstGeom prst="irregularSeal1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80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liasing the compiler can c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owerful tool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2666880"/>
            <a:ext cx="4952880" cy="1981440"/>
          </a:xfrm>
          <a:prstGeom prst="cloudCallout">
            <a:avLst>
              <a:gd name="adj1" fmla="val -54296"/>
              <a:gd name="adj2" fmla="val 58495"/>
            </a:avLst>
          </a:prstGeom>
          <a:solidFill>
            <a:srgbClr val="c0c0c0">
              <a:alpha val="2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language types to disambiguate memory referen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tebulb"/>
          <p:cNvSpPr/>
          <p:nvPr/>
        </p:nvSpPr>
        <p:spPr>
          <a:xfrm>
            <a:off x="1600200" y="3054240"/>
            <a:ext cx="944640" cy="14414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4280" y="4184640"/>
            <a:ext cx="3537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I C/C++ states th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rea of memory can only be associated with one type during its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may only occur between references of the sa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mpat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s compiler to rule out aliasing between references of non-compatibl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ed on with –fstrict-aliasing in g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patibility of C/C++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hor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compatible if differing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 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atible with any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not 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4800600"/>
            <a:ext cx="13716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518148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do for yo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01680" y="1752480"/>
          <a:ext cx="8537400" cy="15829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*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04920" y="4316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t = *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t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-38880" y="3886200"/>
            <a:ext cx="2317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-42480" y="1295280"/>
            <a:ext cx="3401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tur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799880" y="19051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799880" y="46483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liasing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fetc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284480" y="2743200"/>
            <a:ext cx="6432480" cy="16473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D instructions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at 2-8 times th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normal instru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22880" y="2260440"/>
            <a:ext cx="5640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truction paralle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also 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28600" y="2362320"/>
          <a:ext cx="2895480" cy="358092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*((uint32 *)&amp;f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5867280" y="2362320"/>
          <a:ext cx="3048120" cy="35812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58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char8 c[4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(u.c[3]&lt;&lt;24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u.c[2]&lt;&lt;16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..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5" name=""/>
          <p:cNvSpPr/>
          <p:nvPr/>
        </p:nvSpPr>
        <p:spPr>
          <a:xfrm>
            <a:off x="304920" y="1219320"/>
            <a:ext cx="854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 obscure bugs in non-conforming co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ware especially so-called “type pun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200400" y="2362320"/>
          <a:ext cx="2590560" cy="35809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u.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 rot="16200000">
            <a:off x="68580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38862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066680" y="5181120"/>
            <a:ext cx="1143000" cy="1905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/C++ c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o 1999 ANSI/ISO C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in C++ standard yet, but supported by many C++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nt only, so may do nothing and still be confor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trict-qualified pointer (or reference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asically a promise to the compiler that for the scope of the pointer, the target of the pointer will only be accessed through that pointer (and pointers copied from 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85800" y="4389480"/>
            <a:ext cx="29718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477036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5151600"/>
            <a:ext cx="6094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04920" y="182880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87" name=""/>
          <p:cNvSpPr/>
          <p:nvPr/>
        </p:nvSpPr>
        <p:spPr>
          <a:xfrm>
            <a:off x="-82080" y="1403280"/>
            <a:ext cx="350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thi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224280" y="3540240"/>
            <a:ext cx="9413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really want the compiler to treat it as if writ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40" y="6054840"/>
            <a:ext cx="829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because of possible aliasing it cann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304920" y="3965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tmp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t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743200" y="3886200"/>
            <a:ext cx="16765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105520"/>
            <a:ext cx="16765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04920" y="498636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1, 1, 1, 1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04920" y="376704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2, 2, 2, 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-150480" y="3300480"/>
            <a:ext cx="5262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ing for the first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-153000" y="4519440"/>
            <a:ext cx="5416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for the second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01680" y="1832040"/>
          <a:ext cx="8537400" cy="12175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a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4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o(a, &amp;a[4], 10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304920" y="1371600"/>
            <a:ext cx="693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code might be call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6080" y="5715000"/>
            <a:ext cx="8523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ompiler must be conservativ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not perform the optimiz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676520" y="2063880"/>
            <a:ext cx="2286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04920" y="19875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 restrict v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lving the aliasing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-144360" y="1558800"/>
            <a:ext cx="7640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x? Declaring the output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962520"/>
            <a:ext cx="8839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s, in practice may need to decl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ers restri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strict-qualified pointer can grant access to non-restrict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ata-flow analysis required to detect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wo restrict-qualified pointers are trivially non-alias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may work declaring second argument as “float *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895480" y="1911240"/>
            <a:ext cx="198144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04920" y="1835280"/>
          <a:ext cx="8537400" cy="15937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const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st’ doesn’t hel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-195120" y="1406520"/>
            <a:ext cx="6665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ight think this would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43434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!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mises almost no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throug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as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tecting programming errors, not fixing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10800000">
            <a:off x="1522800" y="3200400"/>
            <a:ext cx="4496040" cy="914400"/>
          </a:xfrm>
          <a:prstGeom prst="wedgeRectCallout">
            <a:avLst>
              <a:gd name="adj1" fmla="val -37115"/>
              <a:gd name="adj2" fmla="val 7482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onst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not write to it,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95480" y="4648320"/>
            <a:ext cx="1143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IMD + restrict = TRU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ables SIMD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304920" y="2286000"/>
          <a:ext cx="8534160" cy="158256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304920" y="45291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 restrict 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4876920" y="5029200"/>
            <a:ext cx="4114800" cy="181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load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. Operations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erformed in parall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6920" y="2819520"/>
            <a:ext cx="4114800" cy="181764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 may alias lo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erform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, especially with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combat 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t bew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cky semantics, easy to get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won’t tell you about incorrect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rect use = slow painful death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ps for avoiding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use of globals, pointers,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small variables by-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line small functions taking pointer or referenc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local variables as much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local copies of global and class member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the address of variables (with &amp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s and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variables close to point of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side-effect free functions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manual CSE, especially of pointer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at’s it! </a:t>
            </a:r>
            <a:r>
              <a:rPr b="1" lang="en-US" sz="4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icson, Christer. Real-time collision detection. Morgan-Kaufmann, 2005. (Chapter on memory optimiz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chell, Mark. Type-based alias analysis. Dr. Dobb’s journal, October 2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ison, Arch. Restricted pointers are coming. C/C++ Users Journal, July 1999.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cuj.com/articles/1999/9907/9907d/9907d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imbi, Trishul. Cache-conscious data structures - design and implementation. PhD Thesis. University of Wisconsin, Madison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op, Harald. Cache-oblivious algorithms. Master’s Thesis. MIT, June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053720" y="2313000"/>
            <a:ext cx="6891120" cy="252900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rovemen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il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uble pr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~18 yea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5520" y="1828800"/>
            <a:ext cx="43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ebsting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236880" y="5008680"/>
            <a:ext cx="9497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ollary: Don’t expect the compiler to do i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vin, Andrew. Stephen White. Teaching an old dog new bits: How console developers are able to improve performance when the hardware hasn’t changed. Gamasutra. November 12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gamasutra.com/features/19991112/GavinWhit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y, Jim. The cache memory book. Academic Press, 199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is, Alexandre. Pascal Urro. Leveraging the power of cache memory. Gamasutra. April 9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2"/>
              </a:rPr>
              <a:t>http://www.gamasutra.com/features/19990409/cach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ss, Ornit. Pentium III prefetch optimizations using the VTune performance analyzer. Gamasutra. July 30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4"/>
              </a:rPr>
              <a:t>://www.gamasutra.com/features/19990730/sse_prefetch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ong, Dan. François Bodin. Andr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znec. Improving cache behavior of dynamically allocated data stru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123280" y="1828800"/>
            <a:ext cx="410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 Moore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23619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txBody>
          <a:bodyPr lIns="90000" rIns="90000" tIns="137160" b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oles don’t follow it (as su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xed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nd/3rd generation titles must get improvements from some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ief cache 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cache for instructions, data cache fo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 a memory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divided into cache lines of ~32/64 bytes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 unit in which to count memory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-ma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n KB cache, bytes at k, k+n, k+2n, … map to same cac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-way set-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ache line corresponds to N physical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minimize cache line 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800600"/>
            <a:ext cx="3809880" cy="838080"/>
          </a:xfrm>
          <a:prstGeom prst="rect">
            <a:avLst/>
          </a:prstGeom>
          <a:solidFill>
            <a:srgbClr val="f1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3962520"/>
            <a:ext cx="28195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2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124080"/>
            <a:ext cx="1905120" cy="76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1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2286000"/>
            <a:ext cx="1371600" cy="76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08040" y="3100320"/>
            <a:ext cx="2666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1-5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25880" y="3986280"/>
            <a:ext cx="28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5-2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45360" y="4871880"/>
            <a:ext cx="3274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40-10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45320" y="2286000"/>
            <a:ext cx="1976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97200" y="1600200"/>
            <a:ext cx="2327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ough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0:45:09Z</dcterms:created>
  <dc:creator>Christer Ericson (christer_ericson@playstation.sony.com)</dc:creator>
  <dc:description/>
  <dc:language>en-US</dc:language>
  <cp:lastModifiedBy>Preferred Customer</cp:lastModifiedBy>
  <dcterms:modified xsi:type="dcterms:W3CDTF">2005-03-23T22:48:25Z</dcterms:modified>
  <cp:revision>337</cp:revision>
  <dc:subject/>
  <dc:title>MEMORY OPTIMIZATION</dc:title>
</cp:coreProperties>
</file>