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D806-AC51-4DB4-95A5-E8C6270AF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DE88-B06F-461D-976E-121852DF8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50FC-194F-473E-B9EC-42B02DF37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4910-46F2-43A4-9EEC-ABA1F04E4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46A5E-5969-4DB6-B075-229DEA9A6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6D774-2A18-48FF-BF86-64C88B09A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7409A-0803-4443-9298-BCB3801A6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B74EF-5105-497D-8989-0CBB9B9E3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23D8C-EFBF-4269-8559-37707DC24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FECB1-10F5-4EE6-85C1-30333BEE9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45D57-5E2E-4998-9916-4C93E6B07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5B3C-D021-4DD2-81E9-B1A5C9E18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FD3D4-CF58-45CD-810E-CE7A7BE54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6BACE-8094-4264-9CF2-0C6A57CFA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2AFE1-26CB-49FB-805A-AA062DAC1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9CE5D-9CDF-49B6-B469-3BF68264A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C7022-9E28-4247-B993-8BB1AED2E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76B6-4BFD-47B0-B11C-9AD355B26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55E2-3B88-4E7F-98AC-080FF0E9E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E638-F523-4B4F-8DE9-A691B8509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16A5-2C1B-4502-923D-7032868E9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DEA9-2CD1-40B3-A12B-A2E1B169A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1FB9-FEEB-477E-AADD-316F438D2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EA0F-3F8C-43FC-A1E7-85388E119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5f5f5"/>
                  </a:gs>
                  <a:gs pos="100000">
                    <a:srgbClr val="fefefe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e6e6e6"/>
                  </a:gs>
                  <a:gs pos="50000">
                    <a:srgbClr val="fefefe"/>
                  </a:gs>
                  <a:gs pos="100000">
                    <a:srgbClr val="e6e6e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EBBB9-E37E-4EB1-AFF4-3F94796F84E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fefe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5f5f5"/>
                  </a:gs>
                  <a:gs pos="100000">
                    <a:srgbClr val="fefefe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e6e6e6"/>
                  </a:gs>
                  <a:gs pos="50000">
                    <a:srgbClr val="fefefe"/>
                  </a:gs>
                  <a:gs pos="100000">
                    <a:srgbClr val="e6e6e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09848-8890-4755-9D0B-3CF9C7D24ED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666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0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hyperlink" Target="http://www.cuj.com/articles/1999/9907/9907d/9907d.htm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hyperlink" Target="http://www.gamasutra.com/features/19991112/GavinWhite_01.htm" TargetMode="External"/><Relationship Id="rId2" Type="http://schemas.openxmlformats.org/officeDocument/2006/relationships/hyperlink" Target="http://www.gamasutra.com/features/19990409/cache_01.htm" TargetMode="External"/><Relationship Id="rId3" Type="http://schemas.openxmlformats.org/officeDocument/2006/relationships/hyperlink" Target="http://www.gamasutra.com/features/19990730/sse_prefetch_01.htm" TargetMode="External"/><Relationship Id="rId4" Type="http://schemas.openxmlformats.org/officeDocument/2006/relationships/hyperlink" Target="http://www.gamasutra.com/features/19990730/sse_prefetch_01.htm" TargetMode="Externa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ahoma"/>
              </a:rPr>
              <a:t>MEMORY OPTIMIZATION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914400" y="388620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hrister Erics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ony Computer Entertainment, Santa Moni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christer_ericson@playstation.sony.co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Some cache spec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7200" y="1600200"/>
          <a:ext cx="8153280" cy="2300400"/>
        </p:xfrm>
        <a:graphic>
          <a:graphicData uri="http://schemas.openxmlformats.org/drawingml/2006/table">
            <a:tbl>
              <a:tblPr/>
              <a:tblGrid>
                <a:gridCol w="2022480"/>
                <a:gridCol w="2765520"/>
                <a:gridCol w="33652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1 cache (I/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2 cach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</a:tr>
              <a:tr h="46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S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1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K/8K</a:t>
                      </a:r>
                      <a:r>
                        <a:rPr b="1" lang="en-US" sz="24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†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2-wa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/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ameCub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1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K/32K</a:t>
                      </a:r>
                      <a:r>
                        <a:rPr b="1" lang="en-US" sz="24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‡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8-wa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6K 2-way unifi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BO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1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K/16K 4-wa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K 8-way unifi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e1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~32-64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~128-512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6" name=""/>
          <p:cNvSpPr/>
          <p:nvPr/>
        </p:nvSpPr>
        <p:spPr>
          <a:xfrm>
            <a:off x="207720" y="4419720"/>
            <a:ext cx="8236440" cy="9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K data scratchpad important part of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‡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ble as 16K 4-way + 16K scratchp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Foes: 3 C’s of cache miss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mpulsory mi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voidable misses when data read for first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apacity mi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enough cache space to hold all activ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much data accessed inbetween successive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flict mi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 thrashing due to data mapping to same cache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61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Friends: Introducing the 3 R’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301680" y="4330800"/>
          <a:ext cx="8540640" cy="2070000"/>
        </p:xfrm>
        <a:graphic>
          <a:graphicData uri="http://schemas.openxmlformats.org/drawingml/2006/table">
            <a:tbl>
              <a:tblPr/>
              <a:tblGrid>
                <a:gridCol w="2135160"/>
                <a:gridCol w="2135160"/>
                <a:gridCol w="2135160"/>
                <a:gridCol w="21351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pulso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5b7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pa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5b7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fli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5b74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arran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du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301680" y="1295280"/>
            <a:ext cx="854064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arrange (code, 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 layout to increase spatial loc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duce (size, # cache lines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/smarter formats,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use (cache lin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 temporal (and spatial) loc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Measuring cache utilizatio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680" y="1447560"/>
            <a:ext cx="8540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ro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PU performance/event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memory access statist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access patterns (e.g. strid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rcial produ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N Systems’ Tuner, Metrowerks’ CATS, Intel’s VTu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l your 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cc ‘-p’ option + define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_mcount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rument code with calls to logging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back-of-the-envelope comparis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tudy the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ode cache optimization 1/2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680" y="1447920"/>
            <a:ext cx="8540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oc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order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ally within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order object files during linking (order in makefil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00000"/>
              </a:lnSpc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__attribute__ ((section ("xxx"))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g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 coding sty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nolithic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ion/OOP is less code cache friend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ing tar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ware various implicit functions (e.g. fpto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ode cache optimization 2/2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1680" y="1447920"/>
            <a:ext cx="8540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iz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ware: inlining, unrolling, large mac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I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oid featurit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multiple copies (also helps localit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splitting and loop fu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ile for size (‘-Os’ in g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write in asm (where it coun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gain, study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intuition about code gene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ata cache optimizatio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1680" y="1371240"/>
            <a:ext cx="85406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ots and lots of stuff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ressing”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 and strip mi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 data to align to cach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us other things I won’t go i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What I will talk abou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tching and preloading data into cach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-conscious structur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data stru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arization ca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asing and “anti-aliasing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Prefetching and preloading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oftware prefetc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too early – data may be evicted before 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too late – data not fetched in time for 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e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reloading (pseudo-prefetching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t-under-miss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685800" y="3886200"/>
            <a:ext cx="4648320" cy="304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304920" y="3048120"/>
          <a:ext cx="8537400" cy="3051000"/>
        </p:xfrm>
        <a:graphic>
          <a:graphicData uri="http://schemas.openxmlformats.org/drawingml/2006/table">
            <a:tbl>
              <a:tblPr/>
              <a:tblGrid>
                <a:gridCol w="8537400"/>
              </a:tblGrid>
              <a:tr h="306612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const int kLookAhead = 4; </a:t>
                      </a:r>
                      <a:r>
                        <a:rPr b="0" i="1" lang="en-US" sz="2000" spc="-1" strike="noStrike">
                          <a:solidFill>
                            <a:srgbClr val="666699"/>
                          </a:solidFill>
                          <a:latin typeface="Arial Black"/>
                        </a:rPr>
                        <a:t>// Some elements ah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or (int i = 0; i &lt; 4 * n; i += 4) 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refetch(elem[i + kLookAhead]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rocess(elem[i + 0]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rocess(elem[i + 1]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rocess(elem[i + 2]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rocess(elem[i + 3]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e1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Software prefetching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35" name=""/>
          <p:cNvGraphicFramePr/>
          <p:nvPr/>
        </p:nvGraphicFramePr>
        <p:xfrm>
          <a:off x="301680" y="1600200"/>
          <a:ext cx="8537400" cy="1295280"/>
        </p:xfrm>
        <a:graphic>
          <a:graphicData uri="http://schemas.openxmlformats.org/drawingml/2006/table">
            <a:tbl>
              <a:tblPr/>
              <a:tblGrid>
                <a:gridCol w="8537400"/>
              </a:tblGrid>
              <a:tr h="129528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666699"/>
                          </a:solidFill>
                          <a:latin typeface="Arial Black"/>
                        </a:rPr>
                        <a:t>// Loop through and process all 4n elem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or (int i = 0; i &lt; 4 * n; i++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rocess(elem[i]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e1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685800" y="3886200"/>
            <a:ext cx="3352680" cy="304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85800" y="2438280"/>
            <a:ext cx="3352680" cy="304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Greedy prefetching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39" name=""/>
          <p:cNvGraphicFramePr/>
          <p:nvPr/>
        </p:nvGraphicFramePr>
        <p:xfrm>
          <a:off x="301680" y="1600200"/>
          <a:ext cx="8540640" cy="4138560"/>
        </p:xfrm>
        <a:graphic>
          <a:graphicData uri="http://schemas.openxmlformats.org/drawingml/2006/table">
            <a:tbl>
              <a:tblPr/>
              <a:tblGrid>
                <a:gridCol w="8540640"/>
              </a:tblGrid>
              <a:tr h="417096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void PreorderTraversal(Node *pNode) 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666699"/>
                          </a:solidFill>
                          <a:latin typeface="Arial Black"/>
                        </a:rPr>
                        <a:t>    </a:t>
                      </a:r>
                      <a:r>
                        <a:rPr b="0" i="1" lang="en-US" sz="2000" spc="-1" strike="noStrike">
                          <a:solidFill>
                            <a:srgbClr val="666699"/>
                          </a:solidFill>
                          <a:latin typeface="Arial Black"/>
                        </a:rPr>
                        <a:t>// Greedily prefetch left traversal pa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refetch(pNode-&gt;left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666699"/>
                          </a:solidFill>
                          <a:latin typeface="Arial Black"/>
                        </a:rPr>
                        <a:t>    </a:t>
                      </a:r>
                      <a:r>
                        <a:rPr b="0" i="1" lang="en-US" sz="2000" spc="-1" strike="noStrike">
                          <a:solidFill>
                            <a:srgbClr val="666699"/>
                          </a:solidFill>
                          <a:latin typeface="Arial Black"/>
                        </a:rPr>
                        <a:t>// Process the current no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rocess(pNode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666699"/>
                          </a:solidFill>
                          <a:latin typeface="Arial Black"/>
                        </a:rPr>
                        <a:t>    </a:t>
                      </a:r>
                      <a:r>
                        <a:rPr b="0" i="1" lang="en-US" sz="2000" spc="-1" strike="noStrike">
                          <a:solidFill>
                            <a:srgbClr val="666699"/>
                          </a:solidFill>
                          <a:latin typeface="Arial Black"/>
                        </a:rPr>
                        <a:t>// Greedily prefetch right traversal pa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refetch(pNode-&gt;right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666699"/>
                          </a:solidFill>
                          <a:latin typeface="Arial Black"/>
                        </a:rPr>
                        <a:t>    </a:t>
                      </a:r>
                      <a:r>
                        <a:rPr b="0" i="1" lang="en-US" sz="2000" spc="-1" strike="noStrike">
                          <a:solidFill>
                            <a:srgbClr val="666699"/>
                          </a:solidFill>
                          <a:latin typeface="Arial Black"/>
                        </a:rPr>
                        <a:t>// Recursively visit left then right subtre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reorderTraversal(pNode-&gt;left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reorderTraversal(pNode-&gt;right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e1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Talk contents 1/2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1680" y="1371240"/>
            <a:ext cx="8540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roblem stat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“memory optimizat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Brief architecture 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emory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Optimizing for (code and) data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sugges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tru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fetching and preloa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lay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ee stru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arization ca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685800" y="2438280"/>
            <a:ext cx="6858000" cy="304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Preloading (pseudo-prefetch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42" name=""/>
          <p:cNvGraphicFramePr/>
          <p:nvPr/>
        </p:nvGraphicFramePr>
        <p:xfrm>
          <a:off x="301680" y="1600200"/>
          <a:ext cx="8540640" cy="4503600"/>
        </p:xfrm>
        <a:graphic>
          <a:graphicData uri="http://schemas.openxmlformats.org/drawingml/2006/table">
            <a:tbl>
              <a:tblPr/>
              <a:tblGrid>
                <a:gridCol w="8540640"/>
              </a:tblGrid>
              <a:tr h="453924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Elem a = elem[0]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or (int i = 0; i &lt; 4 * n; i += 4) 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Elem e = elem[i + 4]; </a:t>
                      </a:r>
                      <a:r>
                        <a:rPr b="0" i="1" lang="en-US" sz="2000" spc="-1" strike="noStrike">
                          <a:solidFill>
                            <a:srgbClr val="666699"/>
                          </a:solidFill>
                          <a:latin typeface="Arial Black"/>
                        </a:rPr>
                        <a:t>// Cache miss, non-block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Elem b = elem[i + 1]; </a:t>
                      </a:r>
                      <a:r>
                        <a:rPr b="0" i="1" lang="en-US" sz="2000" spc="-1" strike="noStrike">
                          <a:solidFill>
                            <a:srgbClr val="666699"/>
                          </a:solidFill>
                          <a:latin typeface="Arial Black"/>
                        </a:rPr>
                        <a:t>// Cache h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Elem c = elem[i + 2]; </a:t>
                      </a:r>
                      <a:r>
                        <a:rPr b="0" i="1" lang="en-US" sz="2000" spc="-1" strike="noStrike">
                          <a:solidFill>
                            <a:srgbClr val="666699"/>
                          </a:solidFill>
                          <a:latin typeface="Arial Black"/>
                        </a:rPr>
                        <a:t>// Cache h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Elem d = elem[i + 3]; </a:t>
                      </a:r>
                      <a:r>
                        <a:rPr b="0" i="1" lang="en-US" sz="2000" spc="-1" strike="noStrike">
                          <a:solidFill>
                            <a:srgbClr val="666699"/>
                          </a:solidFill>
                          <a:latin typeface="Arial Black"/>
                        </a:rPr>
                        <a:t>// Cache h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rocess(a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rocess(b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rocess(c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rocess(d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 = e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e1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443" name=""/>
          <p:cNvSpPr/>
          <p:nvPr/>
        </p:nvSpPr>
        <p:spPr>
          <a:xfrm>
            <a:off x="-304920" y="6254640"/>
            <a:ext cx="913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NB: This code reads one element beyond the end of the elem array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Struc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ache-conscious layo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eld reordering (usually grouped conceptuall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t/cold spl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et use decide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ray of stru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s of arr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ittle compiler sup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for non-pointer languages (Jav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/C++: do it your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2819520" y="4114800"/>
            <a:ext cx="533160" cy="304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981080" y="5562720"/>
            <a:ext cx="838440" cy="304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8" name=""/>
          <p:cNvGraphicFramePr/>
          <p:nvPr/>
        </p:nvGraphicFramePr>
        <p:xfrm>
          <a:off x="301680" y="3276720"/>
          <a:ext cx="4879800" cy="3408120"/>
        </p:xfrm>
        <a:graphic>
          <a:graphicData uri="http://schemas.openxmlformats.org/drawingml/2006/table">
            <a:tbl>
              <a:tblPr/>
              <a:tblGrid>
                <a:gridCol w="4879800"/>
              </a:tblGrid>
              <a:tr h="343440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void Foo(S *p, void *key, int k) 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while (p) 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f (p-&gt;key == key) 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-&gt;count[k]++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break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 = p-&gt;pNex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  <a:ea typeface="SimSun"/>
                        </a:rPr>
                        <a:t>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e1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Field reordering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50" name=""/>
          <p:cNvGraphicFramePr/>
          <p:nvPr/>
        </p:nvGraphicFramePr>
        <p:xfrm>
          <a:off x="301680" y="1295280"/>
          <a:ext cx="3660480" cy="1855800"/>
        </p:xfrm>
        <a:graphic>
          <a:graphicData uri="http://schemas.openxmlformats.org/drawingml/2006/table">
            <a:tbl>
              <a:tblPr/>
              <a:tblGrid>
                <a:gridCol w="3660480"/>
              </a:tblGrid>
              <a:tr h="187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truct S 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void *key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nt count[20]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 *pNex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  <a:ea typeface="SimSun"/>
                        </a:rPr>
                        <a:t>}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e1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51" name=""/>
          <p:cNvGraphicFramePr/>
          <p:nvPr/>
        </p:nvGraphicFramePr>
        <p:xfrm>
          <a:off x="5181480" y="1295280"/>
          <a:ext cx="3657240" cy="1855800"/>
        </p:xfrm>
        <a:graphic>
          <a:graphicData uri="http://schemas.openxmlformats.org/drawingml/2006/table">
            <a:tbl>
              <a:tblPr/>
              <a:tblGrid>
                <a:gridCol w="3657240"/>
              </a:tblGrid>
              <a:tr h="187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truct S 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void *key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 *pNex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nt count[20]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  <a:ea typeface="SimSun"/>
                        </a:rPr>
                        <a:t>}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e1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452" name=""/>
          <p:cNvSpPr/>
          <p:nvPr/>
        </p:nvSpPr>
        <p:spPr>
          <a:xfrm>
            <a:off x="2514600" y="1828800"/>
            <a:ext cx="30481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2514600" y="2209320"/>
            <a:ext cx="3048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486400" y="3938760"/>
            <a:ext cx="3429000" cy="16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kely accessed together so store them togeth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685800" y="3173400"/>
            <a:ext cx="380880" cy="304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6" name=""/>
          <p:cNvGraphicFramePr/>
          <p:nvPr/>
        </p:nvGraphicFramePr>
        <p:xfrm>
          <a:off x="301680" y="2030400"/>
          <a:ext cx="3660840" cy="1855800"/>
        </p:xfrm>
        <a:graphic>
          <a:graphicData uri="http://schemas.openxmlformats.org/drawingml/2006/table">
            <a:tbl>
              <a:tblPr/>
              <a:tblGrid>
                <a:gridCol w="3660840"/>
              </a:tblGrid>
              <a:tr h="187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truct S 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void *key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 *pNex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2 *pCold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  <a:ea typeface="SimSun"/>
                        </a:rPr>
                        <a:t>}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e1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457" name=""/>
          <p:cNvSpPr/>
          <p:nvPr/>
        </p:nvSpPr>
        <p:spPr>
          <a:xfrm>
            <a:off x="6172200" y="2106720"/>
            <a:ext cx="380880" cy="304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8" name=""/>
          <p:cNvGraphicFramePr/>
          <p:nvPr/>
        </p:nvGraphicFramePr>
        <p:xfrm>
          <a:off x="5181480" y="2030400"/>
          <a:ext cx="3657600" cy="1828440"/>
        </p:xfrm>
        <a:graphic>
          <a:graphicData uri="http://schemas.openxmlformats.org/drawingml/2006/table">
            <a:tbl>
              <a:tblPr/>
              <a:tblGrid>
                <a:gridCol w="3657600"/>
              </a:tblGrid>
              <a:tr h="182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truct S2 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nt count[10]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  <a:ea typeface="SimSun"/>
                        </a:rPr>
                        <a:t>}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e1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Hot/cold splitting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2666880" y="2258640"/>
            <a:ext cx="2438640" cy="1066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01680" y="4038480"/>
            <a:ext cx="854064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ocate all ‘struct S’ from a memory p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s coh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fer array-style al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ed for actual pointer to cold fie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-38520" y="1547640"/>
            <a:ext cx="25538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t fiel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834080" y="1523880"/>
            <a:ext cx="26956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d fiel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Hot/cold splitting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5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382240" cy="52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eware compiler padding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301680" y="1600200"/>
          <a:ext cx="2593800" cy="3123720"/>
        </p:xfrm>
        <a:graphic>
          <a:graphicData uri="http://schemas.openxmlformats.org/drawingml/2006/table">
            <a:tbl>
              <a:tblPr/>
              <a:tblGrid>
                <a:gridCol w="2593800"/>
              </a:tblGrid>
              <a:tr h="312372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truct X 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nt8 a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nt64 b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nt8 c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nt16 d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nt64 e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loat f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  <a:ea typeface="SimSun"/>
                        </a:rPr>
                        <a:t>}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e1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1680" y="5029200"/>
            <a:ext cx="854064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ing 4-byte floats, for most compilers sizeof(X) == 40, sizeof(Y) == 40, and sizeof(Z) == 24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69" name=""/>
          <p:cNvGraphicFramePr/>
          <p:nvPr/>
        </p:nvGraphicFramePr>
        <p:xfrm>
          <a:off x="6172200" y="1600200"/>
          <a:ext cx="2669760" cy="3124080"/>
        </p:xfrm>
        <a:graphic>
          <a:graphicData uri="http://schemas.openxmlformats.org/drawingml/2006/table">
            <a:tbl>
              <a:tblPr/>
              <a:tblGrid>
                <a:gridCol w="2669760"/>
              </a:tblGrid>
              <a:tr h="312408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truct Z 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nt64 b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nt64 e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loat f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nt16 d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nt8 a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nt8 c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  <a:ea typeface="SimSun"/>
                        </a:rPr>
                        <a:t>}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e1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70" name=""/>
          <p:cNvGraphicFramePr/>
          <p:nvPr/>
        </p:nvGraphicFramePr>
        <p:xfrm>
          <a:off x="2971800" y="1600200"/>
          <a:ext cx="3124080" cy="3116160"/>
        </p:xfrm>
        <a:graphic>
          <a:graphicData uri="http://schemas.openxmlformats.org/drawingml/2006/table">
            <a:tbl>
              <a:tblPr/>
              <a:tblGrid>
                <a:gridCol w="3124080"/>
              </a:tblGrid>
              <a:tr h="313992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truct Y 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nt8 a, pad_a[7]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nt64 b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nt8 c, pad_c[1]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nt16 d, pad_d[2]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nt64 e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loat f, pad_f[1]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  <a:ea typeface="SimSun"/>
                        </a:rPr>
                        <a:t>};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  <a:ea typeface="SimSu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e1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471" name=""/>
          <p:cNvSpPr/>
          <p:nvPr/>
        </p:nvSpPr>
        <p:spPr>
          <a:xfrm>
            <a:off x="8077320" y="2057400"/>
            <a:ext cx="0" cy="2133720"/>
          </a:xfrm>
          <a:prstGeom prst="line">
            <a:avLst/>
          </a:prstGeom>
          <a:ln w="76320">
            <a:solidFill>
              <a:srgbClr val="66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8166600" y="1547280"/>
            <a:ext cx="472680" cy="32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Tahoma"/>
              </a:rPr>
              <a:t>Decreasing siz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ache performance analysi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sage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ivity 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t or cold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lation 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asis for field re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ogging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all class members through accessor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ally instrument functions to call Log()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() function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kes object type + member field as argu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h-maps current args to count field acces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h-maps current + previous args to track pairwise acces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Tree data struc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Rearrange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no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 spatial loc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-aware vs. cache-oblivious lay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Reduce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siz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er elimination (using implicit pointer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ression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data relative to parent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readth-first orde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1066680" y="1139760"/>
            <a:ext cx="6858000" cy="435312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01680" y="5482800"/>
            <a:ext cx="854064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er-less: Left(n)=2n, Right(n)=2n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storage for complete tree of height 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pth-first orde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680" y="5482800"/>
            <a:ext cx="854064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(n) = n + 1, Right(n) = stored ind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tores existing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1219320" y="1204920"/>
            <a:ext cx="655308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Talk contents 2/2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lias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ion penalty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as analysis (type-bas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’ poi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ps for reducing alia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van Emde Boas layou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1"/>
          <a:stretch/>
        </p:blipFill>
        <p:spPr>
          <a:xfrm>
            <a:off x="457200" y="1216080"/>
            <a:ext cx="8077320" cy="399888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01680" y="5407200"/>
            <a:ext cx="854064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-obliviou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ursive constru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 compact static k-d tre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301320" y="1371240"/>
            <a:ext cx="36608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union KDNod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6699"/>
                </a:solidFill>
                <a:latin typeface="Arial Black"/>
              </a:rPr>
              <a:t>    </a:t>
            </a:r>
            <a:r>
              <a:rPr b="0" i="1" lang="en-US" sz="1800" spc="-1" strike="noStrike">
                <a:solidFill>
                  <a:srgbClr val="666699"/>
                </a:solidFill>
                <a:latin typeface="Arial Black"/>
              </a:rPr>
              <a:t>// leaf, type 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nt32 leafIndex_typ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6699"/>
                </a:solidFill>
                <a:latin typeface="Arial Black"/>
              </a:rPr>
              <a:t>    </a:t>
            </a:r>
            <a:r>
              <a:rPr b="0" i="1" lang="en-US" sz="1800" spc="-1" strike="noStrike">
                <a:solidFill>
                  <a:srgbClr val="666699"/>
                </a:solidFill>
                <a:latin typeface="Arial Black"/>
              </a:rPr>
              <a:t>// non-leaf, type 00 = x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6699"/>
                </a:solidFill>
                <a:latin typeface="Arial Black"/>
              </a:rPr>
              <a:t>    </a:t>
            </a:r>
            <a:r>
              <a:rPr b="0" i="1" lang="en-US" sz="1800" spc="-1" strike="noStrike">
                <a:solidFill>
                  <a:srgbClr val="666699"/>
                </a:solidFill>
                <a:latin typeface="Arial Black"/>
              </a:rPr>
              <a:t>// 01 = y, 10 = z-spl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float splitVal_typ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1"/>
          <a:stretch/>
        </p:blipFill>
        <p:spPr>
          <a:xfrm>
            <a:off x="3657600" y="1447920"/>
            <a:ext cx="5184720" cy="191448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2"/>
          <a:stretch/>
        </p:blipFill>
        <p:spPr>
          <a:xfrm>
            <a:off x="152280" y="4017960"/>
            <a:ext cx="8839440" cy="24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Linearization caching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othing better than linear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possible spatial loc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ly prefet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o linearize data at runtime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tch data, store linearized in a custom cach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it to linearize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erarchy travers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exe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random-access stu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" descr=""/>
          <p:cNvPicPr/>
          <p:nvPr/>
        </p:nvPicPr>
        <p:blipFill>
          <a:blip r:embed="rId1"/>
          <a:stretch/>
        </p:blipFill>
        <p:spPr>
          <a:xfrm>
            <a:off x="609480" y="130320"/>
            <a:ext cx="7772400" cy="665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Memory allocation policy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on’t allocate from heap, use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lock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s data toge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ster too, and no frag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ree ASAP, reuse immediat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is likely in cache so reuse its cache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fit, using free l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5" name=""/>
          <p:cNvGrpSpPr/>
          <p:nvPr/>
        </p:nvGrpSpPr>
        <p:grpSpPr>
          <a:xfrm>
            <a:off x="2286000" y="104760"/>
            <a:ext cx="2724120" cy="1495440"/>
            <a:chOff x="2286000" y="104760"/>
            <a:chExt cx="2724120" cy="1495440"/>
          </a:xfrm>
        </p:grpSpPr>
        <p:sp>
          <p:nvSpPr>
            <p:cNvPr id="496" name=""/>
            <p:cNvSpPr/>
            <p:nvPr/>
          </p:nvSpPr>
          <p:spPr>
            <a:xfrm>
              <a:off x="2286000" y="210960"/>
              <a:ext cx="2724120" cy="1152360"/>
            </a:xfrm>
            <a:custGeom>
              <a:avLst/>
              <a:gdLst/>
              <a:ahLst/>
              <a:rect l="l" t="t" r="r" b="b"/>
              <a:pathLst>
                <a:path w="1212" h="726">
                  <a:moveTo>
                    <a:pt x="413" y="127"/>
                  </a:moveTo>
                  <a:cubicBezTo>
                    <a:pt x="346" y="85"/>
                    <a:pt x="305" y="39"/>
                    <a:pt x="251" y="63"/>
                  </a:cubicBezTo>
                  <a:cubicBezTo>
                    <a:pt x="197" y="87"/>
                    <a:pt x="214" y="155"/>
                    <a:pt x="182" y="201"/>
                  </a:cubicBezTo>
                  <a:cubicBezTo>
                    <a:pt x="150" y="247"/>
                    <a:pt x="19" y="192"/>
                    <a:pt x="14" y="252"/>
                  </a:cubicBezTo>
                  <a:cubicBezTo>
                    <a:pt x="9" y="312"/>
                    <a:pt x="83" y="312"/>
                    <a:pt x="89" y="375"/>
                  </a:cubicBezTo>
                  <a:cubicBezTo>
                    <a:pt x="95" y="438"/>
                    <a:pt x="0" y="463"/>
                    <a:pt x="27" y="526"/>
                  </a:cubicBezTo>
                  <a:cubicBezTo>
                    <a:pt x="54" y="589"/>
                    <a:pt x="99" y="513"/>
                    <a:pt x="156" y="549"/>
                  </a:cubicBezTo>
                  <a:cubicBezTo>
                    <a:pt x="213" y="585"/>
                    <a:pt x="150" y="657"/>
                    <a:pt x="197" y="690"/>
                  </a:cubicBezTo>
                  <a:cubicBezTo>
                    <a:pt x="244" y="723"/>
                    <a:pt x="309" y="639"/>
                    <a:pt x="381" y="653"/>
                  </a:cubicBezTo>
                  <a:cubicBezTo>
                    <a:pt x="453" y="667"/>
                    <a:pt x="448" y="704"/>
                    <a:pt x="498" y="712"/>
                  </a:cubicBezTo>
                  <a:cubicBezTo>
                    <a:pt x="548" y="720"/>
                    <a:pt x="576" y="655"/>
                    <a:pt x="609" y="645"/>
                  </a:cubicBezTo>
                  <a:cubicBezTo>
                    <a:pt x="642" y="635"/>
                    <a:pt x="659" y="726"/>
                    <a:pt x="707" y="709"/>
                  </a:cubicBezTo>
                  <a:cubicBezTo>
                    <a:pt x="755" y="692"/>
                    <a:pt x="777" y="596"/>
                    <a:pt x="830" y="595"/>
                  </a:cubicBezTo>
                  <a:cubicBezTo>
                    <a:pt x="883" y="594"/>
                    <a:pt x="935" y="679"/>
                    <a:pt x="970" y="666"/>
                  </a:cubicBezTo>
                  <a:cubicBezTo>
                    <a:pt x="1005" y="653"/>
                    <a:pt x="998" y="597"/>
                    <a:pt x="1020" y="555"/>
                  </a:cubicBezTo>
                  <a:cubicBezTo>
                    <a:pt x="1042" y="513"/>
                    <a:pt x="1131" y="570"/>
                    <a:pt x="1160" y="531"/>
                  </a:cubicBezTo>
                  <a:cubicBezTo>
                    <a:pt x="1189" y="492"/>
                    <a:pt x="1122" y="459"/>
                    <a:pt x="1128" y="433"/>
                  </a:cubicBezTo>
                  <a:cubicBezTo>
                    <a:pt x="1134" y="407"/>
                    <a:pt x="1212" y="384"/>
                    <a:pt x="1190" y="343"/>
                  </a:cubicBezTo>
                  <a:cubicBezTo>
                    <a:pt x="1168" y="302"/>
                    <a:pt x="1067" y="331"/>
                    <a:pt x="1054" y="285"/>
                  </a:cubicBezTo>
                  <a:cubicBezTo>
                    <a:pt x="1041" y="239"/>
                    <a:pt x="1080" y="181"/>
                    <a:pt x="1059" y="148"/>
                  </a:cubicBezTo>
                  <a:cubicBezTo>
                    <a:pt x="1038" y="115"/>
                    <a:pt x="959" y="195"/>
                    <a:pt x="897" y="160"/>
                  </a:cubicBezTo>
                  <a:cubicBezTo>
                    <a:pt x="835" y="125"/>
                    <a:pt x="875" y="38"/>
                    <a:pt x="830" y="19"/>
                  </a:cubicBezTo>
                  <a:cubicBezTo>
                    <a:pt x="785" y="0"/>
                    <a:pt x="730" y="84"/>
                    <a:pt x="696" y="90"/>
                  </a:cubicBezTo>
                  <a:cubicBezTo>
                    <a:pt x="662" y="96"/>
                    <a:pt x="590" y="27"/>
                    <a:pt x="549" y="40"/>
                  </a:cubicBezTo>
                  <a:cubicBezTo>
                    <a:pt x="508" y="53"/>
                    <a:pt x="480" y="169"/>
                    <a:pt x="413" y="127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581280" y="1277640"/>
              <a:ext cx="231840" cy="322560"/>
            </a:xfrm>
            <a:custGeom>
              <a:avLst/>
              <a:gdLst/>
              <a:ahLst/>
              <a:rect l="l" t="t" r="r" b="b"/>
              <a:pathLst>
                <a:path w="146" h="203">
                  <a:moveTo>
                    <a:pt x="14" y="43"/>
                  </a:moveTo>
                  <a:cubicBezTo>
                    <a:pt x="0" y="86"/>
                    <a:pt x="2" y="159"/>
                    <a:pt x="38" y="181"/>
                  </a:cubicBezTo>
                  <a:cubicBezTo>
                    <a:pt x="74" y="203"/>
                    <a:pt x="98" y="201"/>
                    <a:pt x="122" y="175"/>
                  </a:cubicBezTo>
                  <a:cubicBezTo>
                    <a:pt x="146" y="149"/>
                    <a:pt x="94" y="31"/>
                    <a:pt x="74" y="19"/>
                  </a:cubicBezTo>
                  <a:cubicBezTo>
                    <a:pt x="54" y="7"/>
                    <a:pt x="28" y="0"/>
                    <a:pt x="14" y="43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159000" y="104760"/>
              <a:ext cx="206280" cy="245880"/>
            </a:xfrm>
            <a:custGeom>
              <a:avLst/>
              <a:gdLst/>
              <a:ahLst/>
              <a:rect l="l" t="t" r="r" b="b"/>
              <a:pathLst>
                <a:path w="130" h="155">
                  <a:moveTo>
                    <a:pt x="10" y="33"/>
                  </a:moveTo>
                  <a:cubicBezTo>
                    <a:pt x="0" y="49"/>
                    <a:pt x="52" y="139"/>
                    <a:pt x="66" y="147"/>
                  </a:cubicBezTo>
                  <a:cubicBezTo>
                    <a:pt x="80" y="155"/>
                    <a:pt x="118" y="153"/>
                    <a:pt x="124" y="129"/>
                  </a:cubicBezTo>
                  <a:cubicBezTo>
                    <a:pt x="130" y="105"/>
                    <a:pt x="118" y="18"/>
                    <a:pt x="88" y="9"/>
                  </a:cubicBezTo>
                  <a:cubicBezTo>
                    <a:pt x="58" y="0"/>
                    <a:pt x="20" y="17"/>
                    <a:pt x="10" y="33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647960" y="1201680"/>
              <a:ext cx="187560" cy="174600"/>
            </a:xfrm>
            <a:custGeom>
              <a:avLst/>
              <a:gdLst/>
              <a:ahLst/>
              <a:rect l="l" t="t" r="r" b="b"/>
              <a:pathLst>
                <a:path w="118" h="110">
                  <a:moveTo>
                    <a:pt x="10" y="24"/>
                  </a:moveTo>
                  <a:cubicBezTo>
                    <a:pt x="0" y="40"/>
                    <a:pt x="46" y="92"/>
                    <a:pt x="60" y="100"/>
                  </a:cubicBezTo>
                  <a:cubicBezTo>
                    <a:pt x="74" y="108"/>
                    <a:pt x="106" y="110"/>
                    <a:pt x="112" y="86"/>
                  </a:cubicBezTo>
                  <a:cubicBezTo>
                    <a:pt x="118" y="62"/>
                    <a:pt x="80" y="18"/>
                    <a:pt x="50" y="9"/>
                  </a:cubicBezTo>
                  <a:cubicBezTo>
                    <a:pt x="20" y="0"/>
                    <a:pt x="20" y="8"/>
                    <a:pt x="10" y="24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409840" y="1157040"/>
              <a:ext cx="199800" cy="206280"/>
            </a:xfrm>
            <a:custGeom>
              <a:avLst/>
              <a:gdLst/>
              <a:ahLst/>
              <a:rect l="l" t="t" r="r" b="b"/>
              <a:pathLst>
                <a:path w="126" h="130">
                  <a:moveTo>
                    <a:pt x="74" y="18"/>
                  </a:moveTo>
                  <a:cubicBezTo>
                    <a:pt x="30" y="34"/>
                    <a:pt x="4" y="42"/>
                    <a:pt x="2" y="66"/>
                  </a:cubicBezTo>
                  <a:cubicBezTo>
                    <a:pt x="0" y="90"/>
                    <a:pt x="8" y="130"/>
                    <a:pt x="38" y="124"/>
                  </a:cubicBezTo>
                  <a:cubicBezTo>
                    <a:pt x="68" y="118"/>
                    <a:pt x="126" y="48"/>
                    <a:pt x="120" y="24"/>
                  </a:cubicBezTo>
                  <a:cubicBezTo>
                    <a:pt x="114" y="0"/>
                    <a:pt x="118" y="2"/>
                    <a:pt x="74" y="18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The curse of aliasing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01320" y="1600200"/>
            <a:ext cx="8537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is aliasing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3" name=""/>
          <p:cNvGraphicFramePr/>
          <p:nvPr/>
        </p:nvGraphicFramePr>
        <p:xfrm>
          <a:off x="304920" y="4343400"/>
          <a:ext cx="8533440" cy="1947960"/>
        </p:xfrm>
        <a:graphic>
          <a:graphicData uri="http://schemas.openxmlformats.org/drawingml/2006/table">
            <a:tbl>
              <a:tblPr/>
              <a:tblGrid>
                <a:gridCol w="8533440"/>
              </a:tblGrid>
              <a:tr h="196128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nt Foo(int *a, int *b) 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*a = 1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*b = 2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return *a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e1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4" name=""/>
          <p:cNvGraphicFramePr/>
          <p:nvPr/>
        </p:nvGraphicFramePr>
        <p:xfrm>
          <a:off x="304920" y="2135160"/>
          <a:ext cx="8533440" cy="1217520"/>
        </p:xfrm>
        <a:graphic>
          <a:graphicData uri="http://schemas.openxmlformats.org/drawingml/2006/table">
            <a:tbl>
              <a:tblPr/>
              <a:tblGrid>
                <a:gridCol w="8533440"/>
              </a:tblGrid>
              <a:tr h="122472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nt n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nt *p1 = &amp;n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nt *p2 = &amp;n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e1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505" name=""/>
          <p:cNvSpPr/>
          <p:nvPr/>
        </p:nvSpPr>
        <p:spPr>
          <a:xfrm>
            <a:off x="304920" y="3809880"/>
            <a:ext cx="8537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asing is also missed opportunities for optim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rot="5400000">
            <a:off x="5219640" y="3924360"/>
            <a:ext cx="1447920" cy="2743200"/>
          </a:xfrm>
          <a:prstGeom prst="wedgeRectCallout">
            <a:avLst>
              <a:gd name="adj1" fmla="val 26972"/>
              <a:gd name="adj2" fmla="val 116375"/>
            </a:avLst>
          </a:prstGeom>
          <a:solidFill>
            <a:srgbClr val="f15b7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137160" anchor="t" vert="eaVert" rot="10800000">
            <a:no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value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urned he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o know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rot="5400000">
            <a:off x="5600160" y="876240"/>
            <a:ext cx="1447920" cy="3809880"/>
          </a:xfrm>
          <a:prstGeom prst="wedgeRectCallout">
            <a:avLst>
              <a:gd name="adj1" fmla="val 13263"/>
              <a:gd name="adj2" fmla="val 97875"/>
            </a:avLst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137160" anchor="t" vert="eaVert" rot="10800000">
            <a:no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asing is multi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s to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storage 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The curse of aliasing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causing alias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variables/class members make it wor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the problem with alias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nders reordering/elimination of loads/sto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soning data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Negatively affects instruction schedu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nders common subexpression elimination (CSE), loop-invariant code motion, constant/copy propagation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How do we do ‘anti-aliasing’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can be done about alias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ett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aliasing, lower abstraction penalt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etter comp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as analysis such as type-based alias analysi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etter programmers (aiding the compil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t’s you, after the next 20 slides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eap of fa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no-alia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"/>
          <p:cNvSpPr/>
          <p:nvPr/>
        </p:nvSpPr>
        <p:spPr>
          <a:xfrm>
            <a:off x="6248520" y="6019920"/>
            <a:ext cx="24382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†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be def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Matrix multiplication 1/3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14" name=""/>
          <p:cNvGraphicFramePr/>
          <p:nvPr/>
        </p:nvGraphicFramePr>
        <p:xfrm>
          <a:off x="301680" y="1981080"/>
          <a:ext cx="8540640" cy="3408480"/>
        </p:xfrm>
        <a:graphic>
          <a:graphicData uri="http://schemas.openxmlformats.org/drawingml/2006/table">
            <a:tbl>
              <a:tblPr/>
              <a:tblGrid>
                <a:gridCol w="8540640"/>
              </a:tblGrid>
              <a:tr h="343440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Mat22mul(float a[2][2], float b[2][2], float c[2][2])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or (int i = 0; i &lt; 2; i++) 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or (int j = 0; j &lt; 2; j++) 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[i][j] = 0.0f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or (int k = 0; k &lt; 2; k++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 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[i][j] += b[i][k] * c[k][j]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e1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515" name=""/>
          <p:cNvSpPr/>
          <p:nvPr/>
        </p:nvSpPr>
        <p:spPr>
          <a:xfrm>
            <a:off x="-248040" y="1523880"/>
            <a:ext cx="88480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 optimizing a 2x2 matrix multiplic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-192960" y="5738760"/>
            <a:ext cx="89366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do we typically optimize it? Right, unroll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1905120" y="3200400"/>
            <a:ext cx="990360" cy="304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191120" y="3200400"/>
            <a:ext cx="1066680" cy="304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971800" y="3505320"/>
            <a:ext cx="990720" cy="304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334120" y="3505320"/>
            <a:ext cx="990360" cy="304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905120" y="3886200"/>
            <a:ext cx="990360" cy="304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971800" y="3886200"/>
            <a:ext cx="990720" cy="304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4191120" y="3886200"/>
            <a:ext cx="1066680" cy="304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334120" y="3886200"/>
            <a:ext cx="990360" cy="304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01680" y="4724280"/>
            <a:ext cx="85406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wait! There’s a hidden assumption! a is not b or c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er doesn’t (cannot) know thi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1) Must refetch b[0][0] and b[0]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2) Must refetch c[0][0] and c[1][0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3) Must refetch b[0][0], b[0][1], c[0][0] and c[1][0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Matrix multiplication 2/3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"/>
          <p:cNvSpPr/>
          <p:nvPr/>
        </p:nvSpPr>
        <p:spPr>
          <a:xfrm>
            <a:off x="-201960" y="1523880"/>
            <a:ext cx="73972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ightforward unrolling results in th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8" name=""/>
          <p:cNvGraphicFramePr/>
          <p:nvPr/>
        </p:nvGraphicFramePr>
        <p:xfrm>
          <a:off x="301680" y="1969920"/>
          <a:ext cx="8540640" cy="2678040"/>
        </p:xfrm>
        <a:graphic>
          <a:graphicData uri="http://schemas.openxmlformats.org/drawingml/2006/table">
            <a:tbl>
              <a:tblPr/>
              <a:tblGrid>
                <a:gridCol w="8540640"/>
              </a:tblGrid>
              <a:tr h="269784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666699"/>
                          </a:solidFill>
                          <a:latin typeface="Arial Black"/>
                        </a:rPr>
                        <a:t>// 16 memory reads, 4 wri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Mat22mul(float a[2][2], float b[2][2], float c[2][2])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[0][0] = b[0][0]*c[0][0] + b[0][1]*c[1][0]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[0][1] = b[0][0]*c[0][1] + b[0][1]*c[1][1]; </a:t>
                      </a:r>
                      <a:r>
                        <a:rPr b="0" i="1" lang="en-US" sz="2000" spc="-1" strike="noStrike">
                          <a:solidFill>
                            <a:srgbClr val="666699"/>
                          </a:solidFill>
                          <a:latin typeface="Arial Black"/>
                        </a:rPr>
                        <a:t>//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[1][0] = b[1][0]*c[0][0] + b[1][1]*c[1][0]; </a:t>
                      </a:r>
                      <a:r>
                        <a:rPr b="0" i="1" lang="en-US" sz="2000" spc="-1" strike="noStrike">
                          <a:solidFill>
                            <a:srgbClr val="666699"/>
                          </a:solidFill>
                          <a:latin typeface="Arial Black"/>
                        </a:rPr>
                        <a:t>//(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[1][1] = b[1][0]*c[0][1] + b[1][1]*c[1][1]; </a:t>
                      </a:r>
                      <a:r>
                        <a:rPr b="0" i="1" lang="en-US" sz="2000" spc="-1" strike="noStrike">
                          <a:solidFill>
                            <a:srgbClr val="666699"/>
                          </a:solidFill>
                          <a:latin typeface="Arial Black"/>
                        </a:rPr>
                        <a:t>//(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e1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Problem statemen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r the last 20-something years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PU speeds have increased ~60%/ye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ory speeds only decreased ~10%/ye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ap covered by use of cache mem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ache is under-explo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minishing returns for larger ca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efficient cache use = lower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increase cache utilization? Cache-awareness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Matrix multiplication 3/3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30" name=""/>
          <p:cNvGraphicFramePr/>
          <p:nvPr/>
        </p:nvGraphicFramePr>
        <p:xfrm>
          <a:off x="301680" y="1836720"/>
          <a:ext cx="8540640" cy="4503600"/>
        </p:xfrm>
        <a:graphic>
          <a:graphicData uri="http://schemas.openxmlformats.org/drawingml/2006/table">
            <a:tbl>
              <a:tblPr/>
              <a:tblGrid>
                <a:gridCol w="8540640"/>
              </a:tblGrid>
              <a:tr h="453924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666699"/>
                          </a:solidFill>
                          <a:latin typeface="Arial Black"/>
                        </a:rPr>
                        <a:t>// 8 memory reads, 4 wri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Mat22mul(float a[2][2], float b[2][2], float c[2][2])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loat b00 = b[0][0], b01 = b[0][1]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loat b10 = b[1][0], b11 = b[1][1]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loat c00 = c[0][0], c01 = c[0][1]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loat c10 = c[1][0], c11 = c[1][1]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[0][0] = b00*c00 + b01*c10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[0][1] = b00*c01 + b01*c11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[1][0] = b10*c00 + b11*c10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[1][1] = b10*c01 + b11*c11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e1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531" name=""/>
          <p:cNvSpPr/>
          <p:nvPr/>
        </p:nvSpPr>
        <p:spPr>
          <a:xfrm>
            <a:off x="-174240" y="1395360"/>
            <a:ext cx="78544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rrect approach is instead writing it 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 flipH="1">
            <a:off x="6248520" y="4419720"/>
            <a:ext cx="2209680" cy="1447560"/>
          </a:xfrm>
          <a:custGeom>
            <a:avLst/>
            <a:gdLst>
              <a:gd name="textAreaLeft" fmla="*/ 360 w 2209680"/>
              <a:gd name="textAreaRight" fmla="*/ 2210400 w 220968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ff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f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flipH="1">
            <a:off x="6248520" y="2666880"/>
            <a:ext cx="2209680" cy="1447920"/>
          </a:xfrm>
          <a:custGeom>
            <a:avLst/>
            <a:gdLst>
              <a:gd name="textAreaLeft" fmla="*/ 360 w 2209680"/>
              <a:gd name="textAreaRight" fmla="*/ 2210400 w 220968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bstraction penalty problem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gher levels of abstraction have a negative effect on optim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broken into smaller generic sub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and operation hi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not make local copy of e.g. internal poi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not hoist constant expressions out of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pecially because of alias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++ abstraction penalty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ts of (temporary) objects a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era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trix/vector cla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live in heap/st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us subject to alia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s tracking of current member value very diffic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tracking required to keep values in registers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aliasing through the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i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members are virtually as bad as global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++ abstraction penalty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39" name=""/>
          <p:cNvGraphicFramePr/>
          <p:nvPr/>
        </p:nvGraphicFramePr>
        <p:xfrm>
          <a:off x="301680" y="2382840"/>
          <a:ext cx="8537400" cy="3408480"/>
        </p:xfrm>
        <a:graphic>
          <a:graphicData uri="http://schemas.openxmlformats.org/drawingml/2006/table">
            <a:tbl>
              <a:tblPr/>
              <a:tblGrid>
                <a:gridCol w="8537400"/>
              </a:tblGrid>
              <a:tr h="343440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class Buf 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ublic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void Clear() 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or (int i = 0; i &lt; numVals; i++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Buf[i] = 0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rivate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nt numVals, *pBuf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e1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540" name=""/>
          <p:cNvSpPr/>
          <p:nvPr/>
        </p:nvSpPr>
        <p:spPr>
          <a:xfrm>
            <a:off x="-381240" y="1447920"/>
            <a:ext cx="98827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er members in classes may alias other membe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6160" y="6135840"/>
            <a:ext cx="89762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de likely to refetch 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numVal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each itera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191120" y="2057400"/>
            <a:ext cx="2895480" cy="1066680"/>
          </a:xfrm>
          <a:prstGeom prst="wedgeRectCallout">
            <a:avLst>
              <a:gd name="adj1" fmla="val -44023"/>
              <a:gd name="adj2" fmla="val 84819"/>
            </a:avLst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13716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umVa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not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variabl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rot="5400000">
            <a:off x="5029200" y="4076640"/>
            <a:ext cx="1409760" cy="2324160"/>
          </a:xfrm>
          <a:prstGeom prst="wedgeRectCallout">
            <a:avLst>
              <a:gd name="adj1" fmla="val -6194"/>
              <a:gd name="adj2" fmla="val 74314"/>
            </a:avLst>
          </a:prstGeom>
          <a:solidFill>
            <a:srgbClr val="f15b7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137160" anchor="t" vert="eaVert" rot="10800000">
            <a:no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Bu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5105520" y="3637080"/>
            <a:ext cx="304560" cy="304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819520" y="3637080"/>
            <a:ext cx="1828800" cy="304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6" name=""/>
          <p:cNvGraphicFramePr/>
          <p:nvPr/>
        </p:nvGraphicFramePr>
        <p:xfrm>
          <a:off x="301680" y="2438280"/>
          <a:ext cx="8537400" cy="3408480"/>
        </p:xfrm>
        <a:graphic>
          <a:graphicData uri="http://schemas.openxmlformats.org/drawingml/2006/table">
            <a:tbl>
              <a:tblPr/>
              <a:tblGrid>
                <a:gridCol w="8537400"/>
              </a:tblGrid>
              <a:tr h="343440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class Buf 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ublic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void Clear() 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or (int i = 0, n = numVals; i &lt; n; i++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Buf[i] = 0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rivate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nt numVals, *pBuf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e1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++ abstraction penalty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"/>
          <p:cNvSpPr/>
          <p:nvPr/>
        </p:nvSpPr>
        <p:spPr>
          <a:xfrm>
            <a:off x="355680" y="1523880"/>
            <a:ext cx="8493120" cy="12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know that aliasing won’t happen, and c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ly solve the aliasing issue by writing code 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++ abstraction penalty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50" name=""/>
          <p:cNvGraphicFramePr/>
          <p:nvPr/>
        </p:nvGraphicFramePr>
        <p:xfrm>
          <a:off x="301680" y="3036960"/>
          <a:ext cx="8537400" cy="2678040"/>
        </p:xfrm>
        <a:graphic>
          <a:graphicData uri="http://schemas.openxmlformats.org/drawingml/2006/table">
            <a:tbl>
              <a:tblPr/>
              <a:tblGrid>
                <a:gridCol w="8537400"/>
              </a:tblGrid>
              <a:tr h="269784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void Clear() 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f (numVals &gt;= 1) 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Buf[0] = 0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or (int i = 1, n = numVals; i &lt; n; i++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Buf[i] = 0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e1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551" name=""/>
          <p:cNvSpPr/>
          <p:nvPr/>
        </p:nvSpPr>
        <p:spPr>
          <a:xfrm>
            <a:off x="304920" y="1523880"/>
            <a:ext cx="8534160" cy="16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Buf[i]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an only alias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umVa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 the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eration, a quality compiler can fix this problem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ling the loop once, turning it in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89360" y="6043680"/>
            <a:ext cx="87094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Q: Doe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your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compiler do this optimization?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762120" y="2209680"/>
            <a:ext cx="2590560" cy="2667240"/>
          </a:xfrm>
          <a:prstGeom prst="irregularSeal1">
            <a:avLst/>
          </a:prstGeom>
          <a:solidFill>
            <a:srgbClr val="ffff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Type-based alias analysi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301320" y="1600200"/>
            <a:ext cx="80802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liasing the compiler can c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owerful tool i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-based alias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"/>
          <p:cNvSpPr/>
          <p:nvPr/>
        </p:nvSpPr>
        <p:spPr>
          <a:xfrm>
            <a:off x="3200400" y="2666880"/>
            <a:ext cx="4952880" cy="1981440"/>
          </a:xfrm>
          <a:prstGeom prst="cloudCallout">
            <a:avLst>
              <a:gd name="adj1" fmla="val -54296"/>
              <a:gd name="adj2" fmla="val 58495"/>
            </a:avLst>
          </a:prstGeom>
          <a:solidFill>
            <a:srgbClr val="c0c0c0">
              <a:alpha val="28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se language types to disambiguate memory referenc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Litebulb"/>
          <p:cNvSpPr/>
          <p:nvPr/>
        </p:nvSpPr>
        <p:spPr>
          <a:xfrm>
            <a:off x="1600200" y="3054240"/>
            <a:ext cx="944640" cy="1441440"/>
          </a:xfrm>
          <a:prstGeom prst="pie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" descr=""/>
          <p:cNvPicPr/>
          <p:nvPr/>
        </p:nvPicPr>
        <p:blipFill>
          <a:blip r:embed="rId1"/>
          <a:stretch/>
        </p:blipFill>
        <p:spPr>
          <a:xfrm>
            <a:off x="44280" y="4184640"/>
            <a:ext cx="3537000" cy="25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Type-based alias analysi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01680" y="1447560"/>
            <a:ext cx="8540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SI C/C++ states tha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rea of memory can only be associated with one type during its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asing may only occur between references of the sam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compati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ables compiler to rule out aliasing between references of non-compatible 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rned on with –fstrict-aliasing in g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ompatibility of C/C++ typ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301680" y="1447560"/>
            <a:ext cx="8540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shor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compatible if differing by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gn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nsign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s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volat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ha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nsigned cha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ompatible with any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not 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See standard for full details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685800" y="4800600"/>
            <a:ext cx="1371600" cy="304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895480" y="5181480"/>
            <a:ext cx="304920" cy="304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hat TBAA can do for you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66" name=""/>
          <p:cNvGraphicFramePr/>
          <p:nvPr/>
        </p:nvGraphicFramePr>
        <p:xfrm>
          <a:off x="301680" y="1752480"/>
          <a:ext cx="8537400" cy="1582920"/>
        </p:xfrm>
        <a:graphic>
          <a:graphicData uri="http://schemas.openxmlformats.org/drawingml/2006/table">
            <a:tbl>
              <a:tblPr/>
              <a:tblGrid>
                <a:gridCol w="8537400"/>
              </a:tblGrid>
              <a:tr h="159300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void Foo(float *v, int *n) 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or (int i = 0; i &lt; *n; i++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v[i] += 1.0f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e1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7" name=""/>
          <p:cNvGraphicFramePr/>
          <p:nvPr/>
        </p:nvGraphicFramePr>
        <p:xfrm>
          <a:off x="304920" y="4316400"/>
          <a:ext cx="8537400" cy="1947960"/>
        </p:xfrm>
        <a:graphic>
          <a:graphicData uri="http://schemas.openxmlformats.org/drawingml/2006/table">
            <a:tbl>
              <a:tblPr/>
              <a:tblGrid>
                <a:gridCol w="8537400"/>
              </a:tblGrid>
              <a:tr h="196128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void Foo(float *v, int *n) 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nt t = *n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or (int i = 0; i &lt; t; i++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v[i] += 1.0f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e1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568" name=""/>
          <p:cNvSpPr/>
          <p:nvPr/>
        </p:nvSpPr>
        <p:spPr>
          <a:xfrm>
            <a:off x="-38880" y="3886200"/>
            <a:ext cx="23176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o th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-42480" y="1295280"/>
            <a:ext cx="34012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can turn th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H="1">
            <a:off x="4799880" y="1905120"/>
            <a:ext cx="3352680" cy="1295280"/>
          </a:xfrm>
          <a:custGeom>
            <a:avLst/>
            <a:gdLst>
              <a:gd name="textAreaLeft" fmla="*/ -360 w 3352680"/>
              <a:gd name="textAreaRight" fmla="*/ 3352680 w 335268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15b7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alia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v[i]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*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4799880" y="4648320"/>
            <a:ext cx="3352680" cy="1295280"/>
          </a:xfrm>
          <a:custGeom>
            <a:avLst/>
            <a:gdLst>
              <a:gd name="textAreaLeft" fmla="*/ -360 w 3352680"/>
              <a:gd name="textAreaRight" fmla="*/ 3352680 w 335268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liasing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fetch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*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nc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Need more justification? 1/3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"/>
          <p:cNvSpPr/>
          <p:nvPr/>
        </p:nvSpPr>
        <p:spPr>
          <a:xfrm>
            <a:off x="1284480" y="2743200"/>
            <a:ext cx="6432480" cy="1647360"/>
          </a:xfrm>
          <a:prstGeom prst="rect">
            <a:avLst/>
          </a:prstGeom>
          <a:solidFill>
            <a:srgbClr val="f15b7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" bIns="13716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IMD instructions cons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ata at 2-8 times the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of normal instruction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622880" y="2260440"/>
            <a:ext cx="56401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nstruction parallelis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hat TBAA can also do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73" name=""/>
          <p:cNvGraphicFramePr/>
          <p:nvPr/>
        </p:nvGraphicFramePr>
        <p:xfrm>
          <a:off x="228600" y="2362320"/>
          <a:ext cx="2895480" cy="3580920"/>
        </p:xfrm>
        <a:graphic>
          <a:graphicData uri="http://schemas.openxmlformats.org/drawingml/2006/table">
            <a:tbl>
              <a:tblPr/>
              <a:tblGrid>
                <a:gridCol w="2895480"/>
              </a:tblGrid>
              <a:tr h="358092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uint32 i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loat f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 = *((uint32 *)&amp;f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e1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74" name=""/>
          <p:cNvGraphicFramePr/>
          <p:nvPr/>
        </p:nvGraphicFramePr>
        <p:xfrm>
          <a:off x="5867280" y="2362320"/>
          <a:ext cx="3048120" cy="3581280"/>
        </p:xfrm>
        <a:graphic>
          <a:graphicData uri="http://schemas.openxmlformats.org/drawingml/2006/table">
            <a:tbl>
              <a:tblPr/>
              <a:tblGrid>
                <a:gridCol w="3048120"/>
              </a:tblGrid>
              <a:tr h="358128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uint32 i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union 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loat f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uchar8 c[4]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} u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u.f = f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 = (u.c[3]&lt;&lt;24L)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u.c[2]&lt;&lt;16L)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...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e1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575" name=""/>
          <p:cNvSpPr/>
          <p:nvPr/>
        </p:nvSpPr>
        <p:spPr>
          <a:xfrm>
            <a:off x="304920" y="1219320"/>
            <a:ext cx="85406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 obscure bugs in non-conforming cod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ware especially so-called “type punning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6" name=""/>
          <p:cNvGraphicFramePr/>
          <p:nvPr/>
        </p:nvGraphicFramePr>
        <p:xfrm>
          <a:off x="3200400" y="2362320"/>
          <a:ext cx="2590560" cy="3580920"/>
        </p:xfrm>
        <a:graphic>
          <a:graphicData uri="http://schemas.openxmlformats.org/drawingml/2006/table">
            <a:tbl>
              <a:tblPr/>
              <a:tblGrid>
                <a:gridCol w="2590560"/>
              </a:tblGrid>
              <a:tr h="358092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uint32 i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union 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loat f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uint32 i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} u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u.f = f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 = u.i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e1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577" name=""/>
          <p:cNvSpPr/>
          <p:nvPr/>
        </p:nvSpPr>
        <p:spPr>
          <a:xfrm rot="16200000">
            <a:off x="6858000" y="5181480"/>
            <a:ext cx="1143000" cy="190476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904760"/>
              <a:gd name="textAreaBottom" fmla="*/ 190512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787" y="0"/>
                </a:lnTo>
                <a:lnTo>
                  <a:pt x="21600" y="10800"/>
                </a:lnTo>
                <a:lnTo>
                  <a:pt x="1278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rot="16200000">
            <a:off x="3886200" y="5181480"/>
            <a:ext cx="1143000" cy="190476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904760"/>
              <a:gd name="textAreaBottom" fmla="*/ 190512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787" y="0"/>
                </a:lnTo>
                <a:lnTo>
                  <a:pt x="21600" y="10800"/>
                </a:lnTo>
                <a:lnTo>
                  <a:pt x="1278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rot="16200000">
            <a:off x="1066680" y="5181120"/>
            <a:ext cx="1143000" cy="190512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905120"/>
              <a:gd name="textAreaBottom" fmla="*/ 190548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787" y="0"/>
                </a:lnTo>
                <a:lnTo>
                  <a:pt x="21600" y="10800"/>
                </a:lnTo>
                <a:lnTo>
                  <a:pt x="1278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15b7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lleg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/C++ cod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Restrict-qualified pointer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stric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keywo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to 1999 ANSI/ISO C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in C++ standard yet, but supported by many C++ compil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hint only, so may do nothing and still be conform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restrict-qualified pointer (or reference)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basically a promise to the compiler that for the scope of the pointer, the target of the pointer will only be accessed through that pointer (and pointers copied from it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ndard for full details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685800" y="4389480"/>
            <a:ext cx="2971800" cy="304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2895480" y="4770360"/>
            <a:ext cx="304920" cy="304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828800" y="5151600"/>
            <a:ext cx="609480" cy="304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Using the restrict keyword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86" name=""/>
          <p:cNvGraphicFramePr/>
          <p:nvPr/>
        </p:nvGraphicFramePr>
        <p:xfrm>
          <a:off x="304920" y="1828800"/>
          <a:ext cx="8537400" cy="1582560"/>
        </p:xfrm>
        <a:graphic>
          <a:graphicData uri="http://schemas.openxmlformats.org/drawingml/2006/table">
            <a:tbl>
              <a:tblPr/>
              <a:tblGrid>
                <a:gridCol w="8537400"/>
              </a:tblGrid>
              <a:tr h="159300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void Foo(float v[], float *c, int n) 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or (int i = 0; i &lt; n; i++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v[i] = *c + 1.0f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e1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587" name=""/>
          <p:cNvSpPr/>
          <p:nvPr/>
        </p:nvSpPr>
        <p:spPr>
          <a:xfrm>
            <a:off x="-82080" y="1403280"/>
            <a:ext cx="35096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this co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-224280" y="3540240"/>
            <a:ext cx="94136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really want the compiler to treat it as if writt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0440" y="6054840"/>
            <a:ext cx="82980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ut because of possible aliasing it canno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0" name=""/>
          <p:cNvGraphicFramePr/>
          <p:nvPr/>
        </p:nvGraphicFramePr>
        <p:xfrm>
          <a:off x="304920" y="3965400"/>
          <a:ext cx="8537400" cy="1947960"/>
        </p:xfrm>
        <a:graphic>
          <a:graphicData uri="http://schemas.openxmlformats.org/drawingml/2006/table">
            <a:tbl>
              <a:tblPr/>
              <a:tblGrid>
                <a:gridCol w="8537400"/>
              </a:tblGrid>
              <a:tr h="196128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void Foo(float v[], float *c, int n) 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loat tmp = *c + 1.0f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or (int i = 0; i &lt; n; i++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v[i] = tmp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e1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2743200" y="3886200"/>
            <a:ext cx="1676520" cy="304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743200" y="5105520"/>
            <a:ext cx="1676520" cy="304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3" name=""/>
          <p:cNvGraphicFramePr/>
          <p:nvPr/>
        </p:nvGraphicFramePr>
        <p:xfrm>
          <a:off x="304920" y="4986360"/>
          <a:ext cx="8537400" cy="500040"/>
        </p:xfrm>
        <a:graphic>
          <a:graphicData uri="http://schemas.openxmlformats.org/drawingml/2006/table">
            <a:tbl>
              <a:tblPr/>
              <a:tblGrid>
                <a:gridCol w="8537400"/>
              </a:tblGrid>
              <a:tr h="50004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v[] = 1, 1, 1, 1, 1, 1, 1, 1, 1,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e1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94" name=""/>
          <p:cNvGraphicFramePr/>
          <p:nvPr/>
        </p:nvGraphicFramePr>
        <p:xfrm>
          <a:off x="304920" y="3767040"/>
          <a:ext cx="8537400" cy="500040"/>
        </p:xfrm>
        <a:graphic>
          <a:graphicData uri="http://schemas.openxmlformats.org/drawingml/2006/table">
            <a:tbl>
              <a:tblPr/>
              <a:tblGrid>
                <a:gridCol w="8537400"/>
              </a:tblGrid>
              <a:tr h="50004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v[] = 1, 1, 1, 1, 1, 2, 2, 2, 2,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e1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Using the restrict keyword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" name=""/>
          <p:cNvSpPr/>
          <p:nvPr/>
        </p:nvSpPr>
        <p:spPr>
          <a:xfrm>
            <a:off x="-150480" y="3300480"/>
            <a:ext cx="52621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ing for the first ver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-153000" y="4519440"/>
            <a:ext cx="54162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 for the second ver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301680" y="1832040"/>
          <a:ext cx="8537400" cy="1217520"/>
        </p:xfrm>
        <a:graphic>
          <a:graphicData uri="http://schemas.openxmlformats.org/drawingml/2006/table">
            <a:tbl>
              <a:tblPr/>
              <a:tblGrid>
                <a:gridCol w="8537400"/>
              </a:tblGrid>
              <a:tr h="122472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loat a[10]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[4] = 0.0f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oo(a, &amp;a[4], 10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e1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599" name=""/>
          <p:cNvSpPr/>
          <p:nvPr/>
        </p:nvSpPr>
        <p:spPr>
          <a:xfrm>
            <a:off x="304920" y="1371600"/>
            <a:ext cx="693396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, the code might be called 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16080" y="5715000"/>
            <a:ext cx="85230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e compiler must be conservative,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annot perform the optimiza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1676520" y="2063880"/>
            <a:ext cx="2286000" cy="304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2" name=""/>
          <p:cNvGraphicFramePr/>
          <p:nvPr/>
        </p:nvGraphicFramePr>
        <p:xfrm>
          <a:off x="304920" y="1987560"/>
          <a:ext cx="8537400" cy="1582560"/>
        </p:xfrm>
        <a:graphic>
          <a:graphicData uri="http://schemas.openxmlformats.org/drawingml/2006/table">
            <a:tbl>
              <a:tblPr/>
              <a:tblGrid>
                <a:gridCol w="8537400"/>
              </a:tblGrid>
              <a:tr h="159300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void Foo(float * restrict v, float *c, int n) 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or (int i = 0; i &lt; n; i++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v[i] = *c + 1.0f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e1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Solving the aliasing problem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"/>
          <p:cNvSpPr/>
          <p:nvPr/>
        </p:nvSpPr>
        <p:spPr>
          <a:xfrm>
            <a:off x="-144360" y="1558800"/>
            <a:ext cx="76406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fix? Declaring the output as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stric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52280" y="3962520"/>
            <a:ext cx="88394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as, in practice may need to declar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o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ointers restric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restrict-qualified pointer can grant access to non-restrict poi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ll data-flow analysis required to detect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ever, two restrict-qualified pointers are trivially non-aliasing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so may work declaring second argument as “float *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n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2895480" y="1911240"/>
            <a:ext cx="1981440" cy="304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7" name=""/>
          <p:cNvGraphicFramePr/>
          <p:nvPr/>
        </p:nvGraphicFramePr>
        <p:xfrm>
          <a:off x="304920" y="1835280"/>
          <a:ext cx="8537400" cy="1593720"/>
        </p:xfrm>
        <a:graphic>
          <a:graphicData uri="http://schemas.openxmlformats.org/drawingml/2006/table">
            <a:tbl>
              <a:tblPr/>
              <a:tblGrid>
                <a:gridCol w="8537400"/>
              </a:tblGrid>
              <a:tr h="159372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void Foo(float v[], const float *c, int n) 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or (int i = 0; i &lt; n; i++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v[i] = *c + 1.0f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e1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onst’ doesn’t help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"/>
          <p:cNvSpPr/>
          <p:nvPr/>
        </p:nvSpPr>
        <p:spPr>
          <a:xfrm>
            <a:off x="-195120" y="1406520"/>
            <a:ext cx="6665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might think this would wor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52280" y="4343400"/>
            <a:ext cx="8686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ong!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s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romises almost noth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75200" indent="-18288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ys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*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const through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*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const in 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5200" indent="-18288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cast a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5200" indent="-18288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tecting programming errors, not fixing alia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rot="10800000">
            <a:off x="1522800" y="3200400"/>
            <a:ext cx="4496040" cy="914400"/>
          </a:xfrm>
          <a:prstGeom prst="wedgeRectCallout">
            <a:avLst>
              <a:gd name="adj1" fmla="val -37115"/>
              <a:gd name="adj2" fmla="val 74824"/>
            </a:avLst>
          </a:prstGeom>
          <a:solidFill>
            <a:srgbClr val="f15b7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137160" anchor="t" rot="10800000">
            <a:no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*c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const,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v[i]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annot write to it, righ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2895480" y="4648320"/>
            <a:ext cx="1143000" cy="304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SIMD + restrict = TRU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853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stric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enables SIMD optimiz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15" name=""/>
          <p:cNvGraphicFramePr/>
          <p:nvPr/>
        </p:nvGraphicFramePr>
        <p:xfrm>
          <a:off x="304920" y="2286000"/>
          <a:ext cx="8534160" cy="1582560"/>
        </p:xfrm>
        <a:graphic>
          <a:graphicData uri="http://schemas.openxmlformats.org/drawingml/2006/table">
            <a:tbl>
              <a:tblPr/>
              <a:tblGrid>
                <a:gridCol w="8534160"/>
              </a:tblGrid>
              <a:tr h="159300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void VecAdd(int *a, int *b, int *c) 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or (int i = 0; i &lt; 4; i++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[i] = b[i] + c[i];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e1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6" name=""/>
          <p:cNvGraphicFramePr/>
          <p:nvPr/>
        </p:nvGraphicFramePr>
        <p:xfrm>
          <a:off x="304920" y="4529160"/>
          <a:ext cx="8537400" cy="1582560"/>
        </p:xfrm>
        <a:graphic>
          <a:graphicData uri="http://schemas.openxmlformats.org/drawingml/2006/table">
            <a:tbl>
              <a:tblPr/>
              <a:tblGrid>
                <a:gridCol w="8537400"/>
              </a:tblGrid>
              <a:tr h="1593000">
                <a:tc>
                  <a:txBody>
                    <a:bodyPr lIns="90000" rIns="90000" tIns="91440" bIns="91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void VecAdd(int * restrict a, int *b, int *c) 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or (int i = 0; i &lt; 4; i++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[i] = b[i] + c[i];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e1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617" name=""/>
          <p:cNvSpPr/>
          <p:nvPr/>
        </p:nvSpPr>
        <p:spPr>
          <a:xfrm>
            <a:off x="4876920" y="5029200"/>
            <a:ext cx="4114800" cy="181764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137160" anchor="t">
            <a:sp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loads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s. Operations c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performed in paralle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4876920" y="2819520"/>
            <a:ext cx="4114800" cy="1817640"/>
          </a:xfrm>
          <a:prstGeom prst="rect">
            <a:avLst/>
          </a:prstGeom>
          <a:solidFill>
            <a:srgbClr val="f15b7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137160" anchor="t">
            <a:sp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s may alias loa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erform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Restrict-qualified pointer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mportant, especially with C++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lps combat abstraction penalty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But beware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cky semantics, easy to get wr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iler won’t tell you about incorrect 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rect use = slow painful death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Tips for avoiding aliasing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use of globals, pointers, refer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ss small variables by-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line small functions taking pointer or reference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local variables as much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local copies of global and class member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take the address of variables (with &amp;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stric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ointers and refer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 variables close to point of 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 side-effect free functions as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manual CSE, especially of pointer expre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That’s it! </a:t>
            </a:r>
            <a:r>
              <a:rPr b="1" lang="en-US" sz="4400" spc="-1" strike="noStrike">
                <a:solidFill>
                  <a:srgbClr val="000000"/>
                </a:solidFill>
                <a:latin typeface=""/>
              </a:rPr>
              <a:t>–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Resources 1/2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icson, Christer. Real-time collision detection. Morgan-Kaufmann, 2005. (Chapter on memory optimiz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tchell, Mark. Type-based alias analysis. Dr. Dobb’s journal, October 2000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ison, Arch. Restricted pointers are coming. C/C++ Users Journal, July 1999. </a:t>
            </a:r>
            <a:r>
              <a:rPr b="0" lang="en-US" sz="2000" spc="-1" strike="noStrike" u="sng">
                <a:solidFill>
                  <a:srgbClr val="9966ff"/>
                </a:solidFill>
                <a:uFillTx/>
                <a:latin typeface="Tahoma"/>
                <a:hlinkClick r:id="rId1"/>
              </a:rPr>
              <a:t>http://www.cuj.com/articles/1999/9907/9907d/9907d.h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limbi, Trishul. Cache-conscious data structures - design and implementation. PhD Thesis. University of Wisconsin, Madison, 1999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kop, Harald. Cache-oblivious algorithms. Master’s Thesis. MIT, June, 1999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Need more justification? 2/3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"/>
          <p:cNvSpPr/>
          <p:nvPr/>
        </p:nvSpPr>
        <p:spPr>
          <a:xfrm>
            <a:off x="1053720" y="2313000"/>
            <a:ext cx="6891120" cy="2529000"/>
          </a:xfrm>
          <a:prstGeom prst="rect">
            <a:avLst/>
          </a:prstGeom>
          <a:solidFill>
            <a:srgbClr val="f15b7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" bIns="13716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mprovements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mpiler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ouble program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very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~18 years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135520" y="1828800"/>
            <a:ext cx="43142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roebsting’s la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-236880" y="5008680"/>
            <a:ext cx="94971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ollary: Don’t expect the compiler to do it for you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Resources 2/2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301680" y="1371600"/>
            <a:ext cx="85406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vin, Andrew. Stephen White. Teaching an old dog new bits: How console developers are able to improve performance when the hardware hasn’t changed. Gamasutra. November 12, 1999 </a:t>
            </a:r>
            <a:r>
              <a:rPr b="0" lang="en-US" sz="2000" spc="-1" strike="noStrike" u="sng">
                <a:solidFill>
                  <a:srgbClr val="9966ff"/>
                </a:solidFill>
                <a:uFillTx/>
                <a:latin typeface="Tahoma"/>
                <a:hlinkClick r:id="rId1"/>
              </a:rPr>
              <a:t>http://www.gamasutra.com/features/19991112/GavinWhite_01.h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y, Jim. The cache memory book. Academic Press, 1998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cris, Alexandre. Pascal Urro. Leveraging the power of cache memory. Gamasutra. April 9, 1999 </a:t>
            </a:r>
            <a:r>
              <a:rPr b="0" lang="en-US" sz="2000" spc="-1" strike="noStrike" u="sng">
                <a:solidFill>
                  <a:srgbClr val="9966ff"/>
                </a:solidFill>
                <a:uFillTx/>
                <a:latin typeface="Tahoma"/>
                <a:hlinkClick r:id="rId2"/>
              </a:rPr>
              <a:t>http://www.gamasutra.com/features/19990409/cache_01.h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ss, Ornit. Pentium III prefetch optimizations using the VTune performance analyzer. Gamasutra. July 30, 1999 </a:t>
            </a:r>
            <a:r>
              <a:rPr b="0" lang="en-US" sz="2000" spc="-1" strike="noStrike" u="sng">
                <a:solidFill>
                  <a:srgbClr val="9966ff"/>
                </a:solidFill>
                <a:uFillTx/>
                <a:latin typeface="Tahoma"/>
                <a:hlinkClick r:id="rId3"/>
              </a:rPr>
              <a:t>http</a:t>
            </a:r>
            <a:r>
              <a:rPr b="0" lang="en-US" sz="2000" spc="-1" strike="noStrike" u="sng">
                <a:solidFill>
                  <a:srgbClr val="9966ff"/>
                </a:solidFill>
                <a:uFillTx/>
                <a:latin typeface="Tahoma"/>
                <a:hlinkClick r:id="rId4"/>
              </a:rPr>
              <a:t>://www.gamasutra.com/features/19990730/sse_prefetch_01.h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uong, Dan. François Bodin. Andr</a:t>
            </a:r>
            <a:r>
              <a:rPr b="0" lang="sv-SE" sz="2400" spc="-1" strike="noStrike">
                <a:solidFill>
                  <a:srgbClr val="000000"/>
                </a:solidFill>
                <a:latin typeface="Tahoma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eznec. Improving cache behavior of dynamically allocated data structur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Need more justification? 3/3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"/>
          <p:cNvSpPr/>
          <p:nvPr/>
        </p:nvSpPr>
        <p:spPr>
          <a:xfrm>
            <a:off x="2123280" y="1828800"/>
            <a:ext cx="41054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On Moore’s la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761760" y="2361960"/>
            <a:ext cx="7543800" cy="2361960"/>
          </a:xfrm>
          <a:prstGeom prst="rect">
            <a:avLst/>
          </a:prstGeom>
          <a:solidFill>
            <a:srgbClr val="f15b74"/>
          </a:solidFill>
          <a:ln w="38160">
            <a:solidFill>
              <a:srgbClr val="000000"/>
            </a:solidFill>
            <a:miter/>
          </a:ln>
        </p:spPr>
        <p:txBody>
          <a:bodyPr lIns="90000" rIns="90000" tIns="137160" bIns="13716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nsoles don’t follow it (as suc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xed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nd/3rd generation titles must get improvements from some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rief cache review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371240"/>
            <a:ext cx="8540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a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cache for instructions, data cache fo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s a memory hierarch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ach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 divided into cache lines of ~32/64 bytes ea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 unit in which to count memory acc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irect-mapp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n KB cache, bytes at k, k+n, k+2n, … map to same cache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-way set-associ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ache line corresponds to N physical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ps minimize cache line thra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7e7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The memory hierarchy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"/>
          <p:cNvSpPr/>
          <p:nvPr/>
        </p:nvSpPr>
        <p:spPr>
          <a:xfrm>
            <a:off x="1676520" y="4800600"/>
            <a:ext cx="3809880" cy="838080"/>
          </a:xfrm>
          <a:prstGeom prst="rect">
            <a:avLst/>
          </a:prstGeom>
          <a:solidFill>
            <a:srgbClr val="f15b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209680" y="3962520"/>
            <a:ext cx="2819520" cy="761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2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743200" y="3124080"/>
            <a:ext cx="1905120" cy="762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1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048120" y="2286000"/>
            <a:ext cx="1371600" cy="7621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P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008040" y="3100320"/>
            <a:ext cx="26668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1-5 cy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825880" y="3986280"/>
            <a:ext cx="28695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5-20 cy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445360" y="4871880"/>
            <a:ext cx="32749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40-100 cy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745320" y="2286000"/>
            <a:ext cx="19764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397200" y="1600200"/>
            <a:ext cx="23270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Roughl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5T00:45:09Z</dcterms:created>
  <dc:creator>Christer Ericson (christer_ericson@playstation.sony.com)</dc:creator>
  <dc:description/>
  <dc:language>en-US</dc:language>
  <cp:lastModifiedBy>Preferred Customer</cp:lastModifiedBy>
  <dcterms:modified xsi:type="dcterms:W3CDTF">2005-03-23T22:48:25Z</dcterms:modified>
  <cp:revision>337</cp:revision>
  <dc:subject/>
  <dc:title>MEMORY OPTIMIZATION</dc:title>
</cp:coreProperties>
</file>